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D0A-F671-440B-958B-C4700A0B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4D4-936A-4FFD-A1A3-60EB20D3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AFB-F623-49C3-9BA6-9E1414E7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CAC-5480-42A2-B8A1-533D1A61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383-8DA2-47FE-9CBB-5E747706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EAC-82BC-454E-8E4C-33B646FA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A9F-66AA-4A7C-8F9D-165A92D4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B9B-A08D-4AB6-858C-D7339059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6C4-7D74-4C0F-B6BC-4054290D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08E-1BD6-46D3-AC44-328256C6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4E7-492F-4E5A-8F38-0A558629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AE5-58E2-4F48-A475-B1A1022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2C60-F2AA-4D81-A13B-1976D5F3C523}" type="datetime">
              <a:rPr b="0" lang="fr-FR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3EB0-FCE0-43AF-805D-989F678B87C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2" descr="Nhu Quynh.jpg"/>
          <p:cNvPicPr/>
          <p:nvPr/>
        </p:nvPicPr>
        <p:blipFill>
          <a:blip r:embed="rId1"/>
          <a:stretch/>
        </p:blipFill>
        <p:spPr>
          <a:xfrm>
            <a:off x="2195640" y="1844640"/>
            <a:ext cx="4825800" cy="3600360"/>
          </a:xfrm>
          <a:prstGeom prst="rect">
            <a:avLst/>
          </a:prstGeom>
          <a:ln w="0">
            <a:noFill/>
          </a:ln>
        </p:spPr>
      </p:pic>
      <p:pic>
        <p:nvPicPr>
          <p:cNvPr id="42" name="TiengHatChimDaDa_NhuQuynh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ZoneTexte 4"/>
          <p:cNvSpPr/>
          <p:nvPr/>
        </p:nvSpPr>
        <p:spPr>
          <a:xfrm>
            <a:off x="0" y="549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iếng Hát Chim Đa Đ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0" y="551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hạc và lời Võ Đông Điề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iếng hát Nh</a:t>
            </a:r>
            <a:r>
              <a:rPr b="0" lang="vi-VN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ư</a:t>
            </a:r>
            <a:r>
              <a:rPr b="0" lang="fr-FR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Quỳn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Espace réservé du numéro de diapositiv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8156-4CA2-489B-B82A-8528C17EB60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quocdinh25.jpg"/>
          <p:cNvPicPr/>
          <p:nvPr/>
        </p:nvPicPr>
        <p:blipFill>
          <a:blip r:embed="rId1"/>
          <a:stretch/>
        </p:blipFill>
        <p:spPr>
          <a:xfrm>
            <a:off x="395280" y="333360"/>
            <a:ext cx="8348760" cy="5759640"/>
          </a:xfrm>
          <a:prstGeom prst="rect">
            <a:avLst/>
          </a:prstGeom>
          <a:ln w="0">
            <a:noFill/>
          </a:ln>
        </p:spPr>
      </p:pic>
      <p:sp>
        <p:nvSpPr>
          <p:cNvPr id="6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8B16-890B-4EFB-94AF-F70E75F11FD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ZoneTexte 4"/>
          <p:cNvSpPr/>
          <p:nvPr/>
        </p:nvSpPr>
        <p:spPr>
          <a:xfrm>
            <a:off x="0" y="6165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ao không lấy chồng gần mà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 lấy chồng xa?  Có con chim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hót  lời nỉ n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7EA6-B550-42D9-8B51-6FFF9DA3D5C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ZoneTexte 4"/>
          <p:cNvSpPr/>
          <p:nvPr/>
        </p:nvSpPr>
        <p:spPr>
          <a:xfrm>
            <a:off x="0" y="59500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ao Em nỡ lấy chồng từ khi tuổi còn son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ể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con chim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ngậm ngùi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à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h bay x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Image 5" descr="Image1i.jpg"/>
          <p:cNvPicPr/>
          <p:nvPr/>
        </p:nvPicPr>
        <p:blipFill>
          <a:blip r:embed="rId1"/>
          <a:stretch/>
        </p:blipFill>
        <p:spPr>
          <a:xfrm>
            <a:off x="0" y="0"/>
            <a:ext cx="9036000" cy="5921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2154-7D17-4223-928B-91564DF81CE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Image 3" descr="Image1e.jpg"/>
          <p:cNvPicPr/>
          <p:nvPr/>
        </p:nvPicPr>
        <p:blipFill>
          <a:blip r:embed="rId1"/>
          <a:stretch/>
        </p:blipFill>
        <p:spPr>
          <a:xfrm>
            <a:off x="2593800" y="406440"/>
            <a:ext cx="3956400" cy="6045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64A0-BD9D-4589-9EA6-0AEC19FA16D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Image 3" descr="Image1b.jpg"/>
          <p:cNvPicPr/>
          <p:nvPr/>
        </p:nvPicPr>
        <p:blipFill>
          <a:blip r:embed="rId1"/>
          <a:stretch/>
        </p:blipFill>
        <p:spPr>
          <a:xfrm>
            <a:off x="58680" y="561960"/>
            <a:ext cx="9026640" cy="5734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3" descr="DQD Suoi-M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7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9C34-8302-4F6B-A1D5-ECB6C80405D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ZoneTexte 5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ình cờ tôi gặp lại Em, ta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 chung trên một chuyến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ò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2" descr="TP1 (2).jpg"/>
          <p:cNvPicPr/>
          <p:nvPr/>
        </p:nvPicPr>
        <p:blipFill>
          <a:blip r:embed="rId1"/>
          <a:stretch/>
        </p:blipFill>
        <p:spPr>
          <a:xfrm>
            <a:off x="2556000" y="260280"/>
            <a:ext cx="4002120" cy="6120000"/>
          </a:xfrm>
          <a:prstGeom prst="rect">
            <a:avLst/>
          </a:prstGeom>
          <a:ln w="0">
            <a:noFill/>
          </a:ln>
        </p:spPr>
      </p:pic>
      <p:sp>
        <p:nvSpPr>
          <p:cNvPr id="8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006F-27F3-48BD-B1C6-090CF1912B1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ZoneTexte 4"/>
          <p:cNvSpPr/>
          <p:nvPr/>
        </p:nvSpPr>
        <p:spPr>
          <a:xfrm>
            <a:off x="0" y="6381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on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ò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chiều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ư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khách sang sô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22013951-20110325123337_DML-nude-in1.jpg"/>
          <p:cNvPicPr/>
          <p:nvPr/>
        </p:nvPicPr>
        <p:blipFill>
          <a:blip r:embed="rId1"/>
          <a:stretch/>
        </p:blipFill>
        <p:spPr>
          <a:xfrm>
            <a:off x="2268360" y="189000"/>
            <a:ext cx="4573800" cy="6119640"/>
          </a:xfrm>
          <a:prstGeom prst="rect">
            <a:avLst/>
          </a:prstGeom>
          <a:ln w="0">
            <a:noFill/>
          </a:ln>
        </p:spPr>
      </p:pic>
      <p:sp>
        <p:nvSpPr>
          <p:cNvPr id="8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0C7A-1BF7-4139-A18F-D8A86CAAD65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ZoneTexte 4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ình cờ ta nhận ra nhau. Nghe mênh mông nhớ chuyện hôm nà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8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7F2B-FC5C-4371-9E16-80EFF10DFBE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ZoneTexte 4"/>
          <p:cNvSpPr/>
          <p:nvPr/>
        </p:nvSpPr>
        <p:spPr>
          <a:xfrm>
            <a:off x="0" y="609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ể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ò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chiều sóng vỗ lao xa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Image 5" descr="Image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2" descr="12358769701054_yume_pho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9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302B-5891-460A-A0E7-84A28B4C568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ZoneTexte 3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ôm cô dâu sang nhà chồng qua sông trên con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ò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hồng mà giọt buồn nhỏ bên sô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 2" descr="TP5.jpg"/>
          <p:cNvPicPr/>
          <p:nvPr/>
        </p:nvPicPr>
        <p:blipFill>
          <a:blip r:embed="rId1"/>
          <a:stretch/>
        </p:blipFill>
        <p:spPr>
          <a:xfrm>
            <a:off x="2268360" y="260280"/>
            <a:ext cx="4629240" cy="6120000"/>
          </a:xfrm>
          <a:prstGeom prst="rect">
            <a:avLst/>
          </a:prstGeom>
          <a:ln w="0">
            <a:noFill/>
          </a:ln>
        </p:spPr>
      </p:pic>
      <p:sp>
        <p:nvSpPr>
          <p:cNvPr id="9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3BF6-7335-4018-B87B-A3704BECB0B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ZoneTexte 4"/>
          <p:cNvSpPr/>
          <p:nvPr/>
        </p:nvSpPr>
        <p:spPr>
          <a:xfrm>
            <a:off x="0" y="6381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ôm cô dâu sang nhà chồng, ai ru con nghe buồn lòng  lời ru nghe nhớ mo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7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DQD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154-6348-4FBE-9A58-BC2BC6A863E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519-E926-41E2-99FD-40821C53348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ZoneTexte 4"/>
          <p:cNvSpPr/>
          <p:nvPr/>
        </p:nvSpPr>
        <p:spPr>
          <a:xfrm>
            <a:off x="0" y="6165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ầu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ơ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! ầu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ơ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…! có con chim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nó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ậ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u cành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Image 5" descr="Image1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056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22_razny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0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E6D3-AC6E-40DB-8BF5-DCB5A9ABB89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ZoneTexte 4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ao không lấy chồng gần mà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 lấy chồng xa? Có con chim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hót lời nỉ n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1" descr="24_razny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0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169E-D675-44B2-A5F2-20799FD9DB5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ZoneTexte 4"/>
          <p:cNvSpPr/>
          <p:nvPr/>
        </p:nvSpPr>
        <p:spPr>
          <a:xfrm>
            <a:off x="0" y="63086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ao em nỡ lấy chồng từ khi tuổi còn son ? Để con chim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ngậm ngùi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à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h bay x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2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quocdinh7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42DC-5410-4620-B238-7A11E173B3E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ZoneTexte 4"/>
          <p:cNvSpPr/>
          <p:nvPr/>
        </p:nvSpPr>
        <p:spPr>
          <a:xfrm>
            <a:off x="0" y="6381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ể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con chim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ngậm ngùi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à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h bay x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 1" descr="quocdinh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EC8B-008A-40F0-84D0-D77EFFFBE62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ZoneTexte 4"/>
          <p:cNvSpPr/>
          <p:nvPr/>
        </p:nvSpPr>
        <p:spPr>
          <a:xfrm>
            <a:off x="179280" y="6021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QT Sept. 201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DQD4.jpg"/>
          <p:cNvPicPr/>
          <p:nvPr/>
        </p:nvPicPr>
        <p:blipFill>
          <a:blip r:embed="rId1"/>
          <a:stretch/>
        </p:blipFill>
        <p:spPr>
          <a:xfrm>
            <a:off x="2268360" y="260280"/>
            <a:ext cx="4589640" cy="6120000"/>
          </a:xfrm>
          <a:prstGeom prst="rect">
            <a:avLst/>
          </a:prstGeom>
          <a:ln w="0">
            <a:noFill/>
          </a:ln>
        </p:spPr>
      </p:pic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4CD4-9B72-4825-9C48-4654EB61BEC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DQD5.jpg"/>
          <p:cNvPicPr/>
          <p:nvPr/>
        </p:nvPicPr>
        <p:blipFill>
          <a:blip r:embed="rId1"/>
          <a:stretch/>
        </p:blipFill>
        <p:spPr>
          <a:xfrm>
            <a:off x="1476360" y="189000"/>
            <a:ext cx="6154920" cy="615636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B0BA-0819-4E48-85D5-53E7E3FE232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ZoneTexte 4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gày nào Em tuổi m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ườ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 l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ă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, Em hay nghe tôi ngồi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á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h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à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, tiếng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à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 làm nỗi nhớ mênh m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3" descr="DQD8.jpg"/>
          <p:cNvPicPr/>
          <p:nvPr/>
        </p:nvPicPr>
        <p:blipFill>
          <a:blip r:embed="rId1"/>
          <a:stretch/>
        </p:blipFill>
        <p:spPr>
          <a:xfrm>
            <a:off x="2411280" y="189000"/>
            <a:ext cx="4319640" cy="6119640"/>
          </a:xfrm>
          <a:prstGeom prst="rect">
            <a:avLst/>
          </a:prstGeom>
          <a:ln w="0">
            <a:noFill/>
          </a:ln>
        </p:spPr>
      </p:pic>
      <p:sp>
        <p:nvSpPr>
          <p:cNvPr id="5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68E3-4FA4-467E-9EAF-3CB8FFE43E4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Rồi thời gian dần trôi ma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7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3" descr="DQD11.jpg"/>
          <p:cNvPicPr/>
          <p:nvPr/>
        </p:nvPicPr>
        <p:blipFill>
          <a:blip r:embed="rId1"/>
          <a:stretch/>
        </p:blipFill>
        <p:spPr>
          <a:xfrm>
            <a:off x="539640" y="549360"/>
            <a:ext cx="8034480" cy="5543640"/>
          </a:xfrm>
          <a:prstGeom prst="rect">
            <a:avLst/>
          </a:prstGeom>
          <a:ln w="0">
            <a:noFill/>
          </a:ln>
        </p:spPr>
      </p:pic>
      <p:sp>
        <p:nvSpPr>
          <p:cNvPr id="57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F9C6-C76A-41F6-8CA8-860A3EB7CF2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0" y="609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Em không nghe tôi dạo phím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ồ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g, mà chỉ nhìn len lén bên sô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3498-02AF-4FF6-9734-C6C6F8FCBFA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ZoneTexte 6"/>
          <p:cNvSpPr/>
          <p:nvPr/>
        </p:nvSpPr>
        <p:spPr>
          <a:xfrm>
            <a:off x="0" y="609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ao Em không nh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ư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ngày nào, sang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â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y nghe tôi ngồi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à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,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ể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ệu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à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 buồn mênh mang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Image 3" descr="Image1.jpg"/>
          <p:cNvPicPr/>
          <p:nvPr/>
        </p:nvPicPr>
        <p:blipFill>
          <a:blip r:embed="rId1"/>
          <a:stretch/>
        </p:blipFill>
        <p:spPr>
          <a:xfrm>
            <a:off x="606600" y="755640"/>
            <a:ext cx="7930800" cy="5346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DQĐ.jpg"/>
          <p:cNvPicPr/>
          <p:nvPr/>
        </p:nvPicPr>
        <p:blipFill>
          <a:blip r:embed="rId1"/>
          <a:stretch/>
        </p:blipFill>
        <p:spPr>
          <a:xfrm>
            <a:off x="2411280" y="189000"/>
            <a:ext cx="4319640" cy="6119640"/>
          </a:xfrm>
          <a:prstGeom prst="rect">
            <a:avLst/>
          </a:prstGeom>
          <a:ln w="0">
            <a:noFill/>
          </a:ln>
        </p:spPr>
      </p:pic>
      <p:sp>
        <p:nvSpPr>
          <p:cNvPr id="6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698B-3E47-4AA5-B992-E99CB88459B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ZoneTexte 4"/>
          <p:cNvSpPr/>
          <p:nvPr/>
        </p:nvSpPr>
        <p:spPr>
          <a:xfrm>
            <a:off x="0" y="63086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Em nh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ư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mây trôi dịu dàng, trôi lang thang trên bầu trời và mây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ã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xa tô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9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E196-3EF0-4467-A6DD-EF79687E03B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ZoneTexte 5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ầu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ơ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! ầu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ơ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…! có con chim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 nó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ậ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u cành </a:t>
            </a:r>
            <a:r>
              <a:rPr b="0" lang="vi-VN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đ</a:t>
            </a: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Image 6" descr="Image1j.jpg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256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16:26:10Z</dcterms:created>
  <dc:creator>Quang-Thuan HA</dc:creator>
  <dc:description/>
  <dc:language>en-US</dc:language>
  <cp:lastModifiedBy>Quang-Thuan HA</cp:lastModifiedBy>
  <dcterms:modified xsi:type="dcterms:W3CDTF">2012-09-03T14:38:17Z</dcterms:modified>
  <cp:revision>94</cp:revision>
  <dc:subject/>
  <dc:title>Diapositive 1</dc:title>
</cp:coreProperties>
</file>