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powerpoints@gmx.at?subject=i%20have%20enough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551640"/>
            <a:ext cx="32400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963720"/>
            <a:ext cx="83822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13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0920" y="22860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848360" cy="692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60020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19160" y="14400"/>
            <a:ext cx="53056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-33480"/>
            <a:ext cx="89154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8001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1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5449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160"/>
            <a:ext cx="676584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2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48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9:21:36Z</dcterms:created>
  <dc:creator>Anton Nikolov</dc:creator>
  <dc:description/>
  <dc:language>en-US</dc:language>
  <cp:lastModifiedBy>bcofre</cp:lastModifiedBy>
  <dcterms:modified xsi:type="dcterms:W3CDTF">2009-08-19T17:38:03Z</dcterms:modified>
  <cp:revision>8</cp:revision>
  <dc:subject/>
  <dc:title>Slide 1</dc:title>
</cp:coreProperties>
</file>