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89A-7A08-4DF7-A8E7-28E233F5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0DF-49CF-4AE0-951E-517F5C7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3A7-D51B-4347-9130-2B271EA2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69A-F01F-49FA-937F-09C9E497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47B-77D5-42D9-B58E-33DB993A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681-54D4-4400-898B-3CB5432B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0E0-6E1A-427A-BB8B-F343E0D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EE3-BBBB-44A8-93C5-AA27D3F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579-BA0A-46D1-88D8-669AFC0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D8D-82EC-4E66-8922-8B8D14C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677-8297-4F13-A36A-E2122F1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DEB-3616-4F53-A6AF-447F84A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5C93-F19F-4335-94FC-7327E8FFA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40" y="1341360"/>
            <a:ext cx="908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 mundo inteiro já ouviu falar da crise mundial de import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 a invasão de roupas chinesas no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Na China, pelo contrário, há restri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«A prioridade é a exportação!!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parentemente os chineses não 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totalmente contrari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Veja porqu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92320" y="-1035000"/>
            <a:ext cx="68133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7955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94080" y="0"/>
            <a:ext cx="415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9880" y="0"/>
            <a:ext cx="512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-603360"/>
            <a:ext cx="545004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6640" y="-343080"/>
            <a:ext cx="459072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95360" y="0"/>
            <a:ext cx="45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3520" y="9360"/>
            <a:ext cx="447696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90840" y="0"/>
            <a:ext cx="416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8912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46240" y="-603360"/>
            <a:ext cx="5076720" cy="75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9920" y="-603360"/>
            <a:ext cx="466416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16:03Z</dcterms:created>
  <dc:creator/>
  <dc:description/>
  <dc:language>en-US</dc:language>
  <cp:lastModifiedBy>KARL-HEINZ</cp:lastModifiedBy>
  <dcterms:modified xsi:type="dcterms:W3CDTF">2006-03-01T08:24:46Z</dcterms:modified>
  <cp:revision>8</cp:revision>
  <dc:subject/>
  <dc:title>Présentation PowerPoint</dc:title>
</cp:coreProperties>
</file>