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RoyOrbisonEvergree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59EF-559A-42E1-9E88-CAD6A83B8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F55D-F2EC-41B8-A390-89825CC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295A-78AC-4626-AF0D-0A45EF71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315E-BA1C-4938-84B6-F465330AD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6D8F-68C8-479F-8F2D-DF56B5FB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B983-26D7-487C-B467-56666CAD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00F6-75A9-49E9-B8CA-48D06B5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7793-5D7E-46E3-8F93-F7BB9C2C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9101-F892-4C1F-A49C-3947AF1D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CC0F-F53A-401A-B09A-9BDD7AC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273D-FC97-4761-94B4-73F3642C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452C-306A-4EF7-B177-FFE7912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B9F8C8-23EF-4EA4-889A-56DDD952C33F}" type="slidenum"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oyOrbisonEvergree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fade/>
    <p:sndAc>
      <p:stSnd>
        <p:snd r:embed="rId1" name="RoyOrbisonEvergree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994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192400" y="0"/>
            <a:ext cx="4759200" cy="68994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835280" y="0"/>
            <a:ext cx="5249880" cy="689940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79640" y="-47520"/>
            <a:ext cx="5256360" cy="68990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235240" y="-47520"/>
            <a:ext cx="4745160" cy="689904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235240" y="-30240"/>
            <a:ext cx="4745160" cy="686448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303640" y="0"/>
            <a:ext cx="47196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63640" y="-3240"/>
            <a:ext cx="5616720" cy="68994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195640" y="-3240"/>
            <a:ext cx="4752720" cy="68994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459160" y="0"/>
            <a:ext cx="4410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57560" y="0"/>
            <a:ext cx="4653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220840" y="-3240"/>
            <a:ext cx="4702320" cy="68994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281320" y="-3240"/>
            <a:ext cx="4581360" cy="689940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239920" y="0"/>
            <a:ext cx="46879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979640" y="-36360"/>
            <a:ext cx="5256360" cy="6865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268360" y="-6480"/>
            <a:ext cx="4607280" cy="692316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286000" y="-36360"/>
            <a:ext cx="4643280" cy="68659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193840" y="0"/>
            <a:ext cx="47833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260440" y="0"/>
            <a:ext cx="46580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322360" y="0"/>
            <a:ext cx="4697640" cy="683568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349360" y="0"/>
            <a:ext cx="44802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2313000" y="-14400"/>
            <a:ext cx="4562640" cy="68724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195640" y="0"/>
            <a:ext cx="4968720" cy="688500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3781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295360" y="0"/>
            <a:ext cx="476892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222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27664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322360" y="0"/>
            <a:ext cx="46832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763640" y="11160"/>
            <a:ext cx="5616720" cy="687060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19852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24172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0:58:44Z</dcterms:created>
  <dc:creator>marcel</dc:creator>
  <dc:description/>
  <dc:language>en-US</dc:language>
  <cp:lastModifiedBy>Enzo</cp:lastModifiedBy>
  <dcterms:modified xsi:type="dcterms:W3CDTF">2016-10-02T16:52:02Z</dcterms:modified>
  <cp:revision>11</cp:revision>
  <dc:subject/>
  <dc:title>À travers les yeux des photographes</dc:title>
</cp:coreProperties>
</file>