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DA8-B211-438F-A369-0B88A3F7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D3D-E42F-4C2F-A63B-E7A24C32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8EF-6AD0-4745-B98C-EB0782E6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43A-D825-4627-8B3E-E29A0CC2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F8F-2DDF-4CE5-B723-EE8A309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FC0-EAEE-478D-A9A8-686FC64E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C05-45A4-4E59-973D-37029AC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A4E-DE36-403A-B046-8681FB34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143-15CE-4590-9BF3-5F213F0F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066-9A2C-46D9-841C-2F35C78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7E5-2C6D-4EFD-8245-10988572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6D3-4F18-4E15-B849-1012D9A5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7F6C-9DAA-4384-BC40-552E344768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43640" y="64911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4911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1484280"/>
            <a:ext cx="590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3300"/>
                </a:solidFill>
                <a:latin typeface="Broadway"/>
              </a:rPr>
              <a:t>Aiw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3300"/>
                </a:solidFill>
                <a:latin typeface="Broadway"/>
              </a:rPr>
              <a:t>minha ter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3300"/>
                </a:solidFill>
                <a:latin typeface="Broadway"/>
              </a:rPr>
              <a:t>tem loengo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45200" cy="1200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-6004080"/>
            <a:ext cx="8515080" cy="1286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537080" y="0"/>
            <a:ext cx="13681080" cy="906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95640" cy="981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3300"/>
                </a:solidFill>
                <a:latin typeface="Arial"/>
              </a:rPr>
              <a:t>Música: MulembaXangola na voz de Bon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3300"/>
                </a:solidFill>
                <a:latin typeface="Broadway"/>
              </a:rPr>
              <a:t>F I 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3300"/>
                </a:solidFill>
                <a:latin typeface="Broadway"/>
              </a:rPr>
              <a:t>( com pena, mesmo !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63600" y="0"/>
            <a:ext cx="454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02:27Z</dcterms:created>
  <dc:creator/>
  <dc:description/>
  <cp:keywords/>
  <dc:language>en-US</dc:language>
  <cp:lastModifiedBy>fernando</cp:lastModifiedBy>
  <dcterms:modified xsi:type="dcterms:W3CDTF">2007-01-05T09:53:09Z</dcterms:modified>
  <cp:revision>18</cp:revision>
  <dc:subject/>
  <dc:title>Diapositivo 1</dc:title>
</cp:coreProperties>
</file>