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498-B31F-4AB4-88CF-C7CC0C1F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D37-9626-4B47-A71C-8EE4190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411-02F7-4CD7-8A11-7EC1A14F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1F3-3FA1-4480-8134-90DD40D6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E67-5F3F-4C97-A5E6-84D0778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03B-7B08-4505-8DD7-A4734F28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E84-9583-4980-8F8D-FC6FDD6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DE5-F280-4BB9-8A55-1D05AA48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8DE-F22E-44B2-BE64-76DE1032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92B-F83C-4FAF-8ABD-E9A6012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2D5-5CA1-4E89-9DC4-D4E4C1EC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25F-7405-4CC7-A803-227CA7E3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C333-8FB2-4DFF-88AA-CB46DC4C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133720"/>
            <a:ext cx="5943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IEZ  PRESEN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572000" cy="616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4572000" cy="616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9º para LA SABIDU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572000" cy="602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836640"/>
            <a:ext cx="4572000" cy="6021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-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10º para LOS PLACERES D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07920"/>
            <a:ext cx="91440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Si enviás este mail a</a:t>
            </a:r>
            <a:br>
              <a:rPr sz="4400"/>
            </a:b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diez (10) personas, tendrás mucho sexo con la mujer de tu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SUEÑOS ! !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Arial"/>
              </a:rPr>
              <a:t>Si lo mandás a más de diez (10) personas, estas diosas te visitará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Arial"/>
              </a:rPr>
              <a:t>Si lo envías a menos de diez  (10) te visitará ést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251000"/>
            <a:ext cx="9144000" cy="56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324000" y="-171360"/>
            <a:ext cx="97934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3300"/>
                </a:solidFill>
                <a:latin typeface="Arial"/>
              </a:rPr>
              <a:t>Si no lo envías, tendrás que satisfacer a ést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643280" cy="566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50072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572000" cy="626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0" y="836640"/>
            <a:ext cx="4572000" cy="6264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-316080"/>
            <a:ext cx="93963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3300"/>
                </a:solidFill>
                <a:latin typeface="Arial"/>
              </a:rPr>
              <a:t>O éstas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3600360" cy="201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362320" y="2819520"/>
            <a:ext cx="4465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14600" y="5638680"/>
            <a:ext cx="863640" cy="6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429000" y="5791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¡¡¡FELICIDADES!!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1º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-2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2º para LA SUE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500720" cy="609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4643280" cy="609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3º para EL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572000" cy="609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4572000" cy="609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4º para LA ESPER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5º para LA AMIST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572000" cy="616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4572000" cy="616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2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6º para LA LEALT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7º para LOS S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3300"/>
                </a:solidFill>
                <a:latin typeface="Arial"/>
              </a:rPr>
              <a:t>8º para LOS DES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3:04:40Z</dcterms:created>
  <dc:creator>user</dc:creator>
  <dc:description/>
  <dc:language>en-US</dc:language>
  <cp:lastModifiedBy>Carlos Alfonso Caicedo G.</cp:lastModifiedBy>
  <dcterms:modified xsi:type="dcterms:W3CDTF">2009-01-09T11:59:17Z</dcterms:modified>
  <cp:revision>8</cp:revision>
  <dc:subject/>
  <dc:title>Slide 1</dc:title>
</cp:coreProperties>
</file>