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759-3DF7-400B-B9CC-F44DD026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232-2425-40C0-9DD3-1E5F0112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9E1-D212-410C-B060-EBFBD62B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694-0E02-4D88-A473-9EFF3509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282-7C79-4CD1-B13D-EF62F5D0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3F2-BD92-4C30-BD1E-0E296D3D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23E-630A-4713-B5B5-E9B6DE0B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6A2-4293-4CE7-8287-C8B19B22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8B4-5E4F-4A01-8E5B-18E6DB25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B1C-53AF-44DB-A81F-C74771EA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209-F79B-4C37-939A-E782E7D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FA9-F39E-4321-9B23-9CB392A1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7468-5503-4BCE-8083-8C44A941D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95360" y="1909800"/>
            <a:ext cx="4553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8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95360" y="14400"/>
            <a:ext cx="45532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7:26:37Z</dcterms:created>
  <dc:creator>DEMO</dc:creator>
  <dc:description/>
  <dc:language>en-US</dc:language>
  <cp:lastModifiedBy>DEMO</cp:lastModifiedBy>
  <dcterms:modified xsi:type="dcterms:W3CDTF">2009-10-19T17:27:12Z</dcterms:modified>
  <cp:revision>1</cp:revision>
  <dc:subject/>
  <dc:title>Slide 1</dc:title>
</cp:coreProperties>
</file>