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ridimensionarta%20bellissima1.wav" ContentType="audio/x-wav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899E-4269-4B69-8E0B-19AE561C0E7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4CA5-84DE-4625-A388-9EB03C41BE2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36F-C694-4FCB-AB7F-656CC3C7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AD9-830D-4305-AF72-4221B6F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5ED-529A-40D5-8E30-B79765B9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016-0E7E-4481-87AF-E379719D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D46-1571-4B03-A7E5-B8909A61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4E1-5D2D-4E3C-AFF9-78996E4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0D9-46C8-4318-AC39-8DC826B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40B-C3E0-4C6D-BEC7-517B4FC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334-A4C9-4C88-AD46-EE33ED1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19F-21DC-4BE2-9F39-3622D17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725-E1B1-48F0-AE11-219B2D3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496-517B-4315-BA18-D9FE150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4E0-6925-40D8-85F6-5ACF663ED50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dimensionarta%20bellissima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andra\Desktop\Immagine26d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andra\Desktop\Immagine26d.jpg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Sandra\Desktop\Immagine28cv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Sandra\Desktop\Immagine28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Rettangolo 3"/>
          <p:cNvSpPr/>
          <p:nvPr/>
        </p:nvSpPr>
        <p:spPr>
          <a:xfrm>
            <a:off x="1143000" y="57168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Sandra\Desktop\Immagine3ccccccccccccc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Sandra\Desktop\Immaginnnnnnnnnnnne3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Sandra\Desktop\w3f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andra\Desktop\w3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Sandra\Desktop\Immagine27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Sandra\Desktop\Immagine27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292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99ff"/>
                </a:solidFill>
                <a:latin typeface="Century Gothic"/>
              </a:rPr>
              <a:t>Para os que gostam de ar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ridimensionarta%20bellissima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Sandra\Desktop\Immagine30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Sandra\Desktop\Immagine30v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Sandra\Desktop\Immagine2nnn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Sandra\Desktop\Immagine2.jpg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andra\Desktop\Immagine1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andra\Desktop\Immagine1f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Sandra\Desktop\ww5vvvvvvvvvvvv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Sandra\Desktop\ww5hhhhhhhhhhhh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Sandra\Desktop\Immagine2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Sandra\Desktop\Immagine20zz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andra\Desktop\Immagine34vv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Sandra\Desktop\Immagine34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Sandra\Desktop\ww5hhhhhhhhhhhh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andra\Desktop\ww6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andra\Desktop\ww6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Sandra\Desktop\Immagine1n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Sandra\Desktop\Immagine1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Sandra\Desktop\Immagine37ff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Sandra\Desktop\Immagine37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Sandra\Desktop\Immagine23s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Sandra\Desktop\Immagine23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Sandra\Desktop\www5d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Sandra\Desktop\www5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8040" cy="722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C:\Users\Sandra\Desktop\Immagine3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Sandra\Desktop\Immagine3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ttangolo 3"/>
          <p:cNvSpPr/>
          <p:nvPr/>
        </p:nvSpPr>
        <p:spPr>
          <a:xfrm>
            <a:off x="0" y="2858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0861560" cy="72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Sandra\Desktop\www4g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Sandra\Desktop\www4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Sandra\Desktop\wwww1g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andra\Desktop\wwww1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8040" cy="7227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Sandra\Desktop\Immagine19cc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Sandra\Desktop\Immagine19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andra\Desktop\Immagine38vvv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andra\Desktop\Immagine38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292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99ff"/>
                </a:solidFill>
                <a:latin typeface="Century Gothic"/>
              </a:rPr>
              <a:t>f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andra\Desktop\Immagine36a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andra\Desktop\Immagine36aa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15236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Sandra\Desktop\Immagine31x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andra\Desktop\Immagine31s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21:06:14Z</dcterms:created>
  <dc:creator>copia de demonstracao</dc:creator>
  <dc:description/>
  <dc:language>en-US</dc:language>
  <cp:lastModifiedBy>copia de demonstracao</cp:lastModifiedBy>
  <dcterms:modified xsi:type="dcterms:W3CDTF">2011-09-24T21:35:18Z</dcterms:modified>
  <cp:revision>2</cp:revision>
  <dc:subject/>
  <dc:title>Slide 1</dc:title>
</cp:coreProperties>
</file>