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06E-66F7-46E0-AB33-19ABB4DA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8E0-5AED-4F28-853A-5DB224AC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328-F39E-4190-A9E0-D63DBE8B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8DA-6D43-48DA-8C8B-A87501BD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D6B-3095-475B-9974-092CC743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920-CB4E-4515-B0F8-A92F7706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A12-54AE-409E-8A76-3B6FFE85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5F9-CEAE-44CF-9536-CC1FF0A7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658-0155-46A9-BF75-1B1F3D47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355-5D2A-48D6-9576-D197DA64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31F-1AD9-494B-A342-CC912EC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00B-22F5-4EC8-84BB-AF94E5A6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32E0-1003-4FE7-9303-EE119FA64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701360"/>
            <a:ext cx="8207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600" spc="-1" strike="noStrike">
                <a:solidFill>
                  <a:srgbClr val="00ff00"/>
                </a:solidFill>
                <a:latin typeface="Arial"/>
              </a:rPr>
              <a:t>PERFECCIÓN</a:t>
            </a:r>
            <a:br>
              <a:rPr sz="9600"/>
            </a:br>
            <a:r>
              <a:rPr b="1" lang="es-MX" sz="9600" spc="-1" strike="noStrike">
                <a:solidFill>
                  <a:srgbClr val="00ff00"/>
                </a:solidFill>
                <a:latin typeface="Arial"/>
              </a:rPr>
              <a:t> ERÓTIC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72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37680" y="6021360"/>
            <a:ext cx="51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ff00"/>
                </a:solidFill>
                <a:latin typeface="Arial"/>
              </a:rPr>
              <a:t>Disfrútalo cambiando las imágenes muy d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797724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-125100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82821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838080"/>
            <a:ext cx="9144000" cy="83055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05520" y="0"/>
            <a:ext cx="403848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Midnight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Not a sound from the pavement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Has the moon lost her memory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She is smiling alone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In the lamplight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The withered leaves collect at my feet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And the wind begins to moan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Memory, all alone in the moonlight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I can dream of the old days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Life was beautiful then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I remember the time I knew what happiness was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Let the memory live again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Every street lamp seems to beat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A fatalistic warning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Someone mutters and the street lamp sputters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Soon it will be morning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Daylight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I must wait for the sunrise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I must think of a new life and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I mustn't give in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When the dawn comes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Tonight will be a memory too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And a new day will begin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Burnt out ends of smoky days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The stale court smell of morning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A street lamp dies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Another night is over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Another day is dawning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Touch me,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It is so easy to leave me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All alone with the memory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Of my days in the sun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If you'll touch me,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You'll understand what happiness is </a:t>
            </a:r>
            <a:br>
              <a:rPr sz="1200"/>
            </a:br>
            <a:r>
              <a:rPr b="0" lang="es-ES" sz="1200" spc="-1" strike="noStrike">
                <a:solidFill>
                  <a:srgbClr val="0099ff"/>
                </a:solidFill>
                <a:latin typeface="Verdana"/>
              </a:rPr>
              <a:t>Look, a new day has begu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1680" y="95400"/>
            <a:ext cx="4000320" cy="6667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10280" y="65530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0000"/>
                </a:solidFill>
                <a:latin typeface="Verdana"/>
              </a:rPr>
              <a:t>Press ‘ESC’ to 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119240"/>
            <a:ext cx="9144000" cy="9096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2:01:50Z</dcterms:created>
  <dc:creator> </dc:creator>
  <dc:description/>
  <dc:language>en-US</dc:language>
  <cp:lastModifiedBy>juan carlos</cp:lastModifiedBy>
  <dcterms:modified xsi:type="dcterms:W3CDTF">2007-05-03T10:10:37Z</dcterms:modified>
  <cp:revision>5</cp:revision>
  <dc:subject/>
  <dc:title>PERFECCIÓN  ERÓTICA</dc:title>
</cp:coreProperties>
</file>