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8.gif" ContentType="image/gif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B33-D191-4CEF-B13E-641FF863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81532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707280"/>
            <a:ext cx="81532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894-BEBF-49A1-A33F-F83BB686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888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5C3-7F84-4B52-8947-AB7DFD97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7600" y="76176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4120" y="76176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70728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7600" y="370728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4120" y="370728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958-1FC4-45AD-B160-07D6681B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113D-B6CC-483E-964E-85492049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E6DB-C7B7-494F-9D58-09491EAF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FDB0-6ED7-48AC-B60C-1ECFFFB1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C6D3-1C9F-4782-868C-5DC04AB9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7C11-FA1A-4626-9693-039C0E9C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EFA3-8BCC-472A-AC33-9A973D54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3978-3481-472F-81D9-E13833F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816-1B9F-4CE6-AB7B-40616A02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6888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9002-2020-4165-9EDC-F43AE1A7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707280"/>
            <a:ext cx="81532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DF58-0DA0-4BC5-999C-81C2EBA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81532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707280"/>
            <a:ext cx="81532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608A-0EA8-4A7A-833F-480ECC5B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6888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AEF0-4907-4847-B8E2-FAE3E9C2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47600" y="76176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4120" y="76176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70728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47600" y="370728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04120" y="3707280"/>
            <a:ext cx="2625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9BA0-6241-49AB-BDBE-02ACFB05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6BD-1F5B-40CA-85E1-4E6805B1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E0D-1F6E-4CE6-A368-E43983D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F79-82C7-4C0D-AC76-3DF3EB66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2B7-8390-41A7-B0B5-B3F397A7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322-044B-42ED-90D2-6C9562C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8880" y="370728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4F7-6D34-4AF0-A635-0F5A7EAD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-1692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8880" y="761760"/>
            <a:ext cx="3978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707280"/>
            <a:ext cx="81532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C18-5F9E-4570-AF71-B6203D3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Eras Demi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Eras Demi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Eras Demi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Demi IT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Eras Demi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E29-EA1D-408B-B84A-5BCCC4A2127F}" type="slidenum">
              <a:rPr b="0" lang="en-US" sz="1200" spc="-1" strike="noStrike">
                <a:solidFill>
                  <a:srgbClr val="000000"/>
                </a:solidFill>
                <a:latin typeface="Eras Demi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Impact"/>
              </a:rPr>
              <a:t>Click to edit the title text format</a:t>
            </a:r>
            <a:endParaRPr b="0" lang="en-US" sz="4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6699"/>
                </a:solidFill>
                <a:latin typeface="Eras Demi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6699"/>
                </a:solidFill>
                <a:latin typeface="Eras Demi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99"/>
                </a:solidFill>
                <a:latin typeface="Eras Demi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Eras Demi IT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99"/>
                </a:solidFill>
                <a:latin typeface="Eras Demi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C061-ABC4-4033-A982-A9C59AE31CA5}" type="slidenum">
              <a:rPr b="0" lang="en-US" sz="1200" spc="-1" strike="noStrike">
                <a:solidFill>
                  <a:srgbClr val="006699"/>
                </a:solidFill>
                <a:latin typeface="Eras Demi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182080" y="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429000"/>
            <a:ext cx="2276640" cy="3429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67360" y="3429000"/>
            <a:ext cx="2276640" cy="3429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4591080" y="0"/>
            <a:ext cx="455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4667400" cy="7029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0549080" cy="7005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2766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67360" y="3429000"/>
            <a:ext cx="227664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429000"/>
            <a:ext cx="2276640" cy="3429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67360" y="0"/>
            <a:ext cx="2276640" cy="3429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-1332000" y="0"/>
            <a:ext cx="10476000" cy="6956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-1405080" y="0"/>
            <a:ext cx="10549080" cy="7005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324160" cy="35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19840" y="3357720"/>
            <a:ext cx="2324160" cy="35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429000"/>
            <a:ext cx="2276640" cy="3429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67360" y="0"/>
            <a:ext cx="2276640" cy="3429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455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-1332000" y="0"/>
            <a:ext cx="10476000" cy="6956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455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76600" y="-171360"/>
            <a:ext cx="4667400" cy="7029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429000"/>
            <a:ext cx="22766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67360" y="0"/>
            <a:ext cx="227664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324160" cy="35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9840" y="3357720"/>
            <a:ext cx="2324160" cy="35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-1260360" y="0"/>
            <a:ext cx="10404360" cy="6908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-1260360" y="0"/>
            <a:ext cx="10404360" cy="6908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455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9080" y="-243000"/>
            <a:ext cx="4714920" cy="710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404360" cy="6908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-541440" y="0"/>
            <a:ext cx="10441080" cy="6934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68" name=""/>
          <p:cNvSpPr/>
          <p:nvPr/>
        </p:nvSpPr>
        <p:spPr>
          <a:xfrm>
            <a:off x="4591080" y="0"/>
            <a:ext cx="455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-243000"/>
            <a:ext cx="4714920" cy="710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429000"/>
            <a:ext cx="22766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67360" y="0"/>
            <a:ext cx="227664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276640" cy="3429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7360" y="3429000"/>
            <a:ext cx="2276640" cy="3429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-468360" y="0"/>
            <a:ext cx="10512360" cy="698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2766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3429000"/>
            <a:ext cx="227664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429000"/>
            <a:ext cx="2276640" cy="3429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67360" y="0"/>
            <a:ext cx="2276640" cy="3429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-541440" y="0"/>
            <a:ext cx="10442520" cy="6934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2295360" y="0"/>
            <a:ext cx="4553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429000"/>
            <a:ext cx="22766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67360" y="0"/>
            <a:ext cx="227664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2324160" cy="35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19840" y="3357720"/>
            <a:ext cx="2324160" cy="35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-612720" y="0"/>
            <a:ext cx="10513800" cy="6981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918560" y="0"/>
            <a:ext cx="1225440" cy="952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977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4552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9080" y="0"/>
            <a:ext cx="4714920" cy="710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-396720" y="0"/>
            <a:ext cx="10513800" cy="6981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-171360"/>
            <a:ext cx="4667400" cy="7029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91080" y="0"/>
            <a:ext cx="45529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0" y="0"/>
            <a:ext cx="10476000" cy="6956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0"/>
            <a:ext cx="4608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2766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67360" y="3429000"/>
            <a:ext cx="227664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2276640" cy="3429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67360" y="0"/>
            <a:ext cx="2276640" cy="3429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-612720" y="0"/>
            <a:ext cx="10729800" cy="7124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6:24:05Z</dcterms:created>
  <dc:creator>ge</dc:creator>
  <dc:description/>
  <dc:language>en-US</dc:language>
  <cp:lastModifiedBy>ge</cp:lastModifiedBy>
  <dcterms:modified xsi:type="dcterms:W3CDTF">2010-08-09T16:43:50Z</dcterms:modified>
  <cp:revision>5</cp:revision>
  <dc:subject/>
  <dc:title>Dia 1</dc:title>
</cp:coreProperties>
</file>