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rna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rn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47520" y="-387360"/>
            <a:ext cx="9191520" cy="1377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  <p:sndAc>
      <p:stSnd>
        <p:snd r:embed="rId2" name="Irn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1440" y="-5018040"/>
            <a:ext cx="9145440" cy="1370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52:34Z</dcterms:created>
  <dc:creator/>
  <dc:description/>
  <dc:language>en-US</dc:language>
  <cp:lastModifiedBy>Marc Steenacker</cp:lastModifiedBy>
  <dcterms:modified xsi:type="dcterms:W3CDTF">2010-10-22T12:45:44Z</dcterms:modified>
  <cp:revision>4</cp:revision>
  <dc:subject/>
  <dc:title>Staci Lynn Sharp</dc:title>
</cp:coreProperties>
</file>