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51.jpeg" ContentType="image/jpeg"/>
  <Override PartName="/ppt/media/Iliza%20gomara%20saia.wav" ContentType="audio/x-wav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5.png" ContentType="image/png"/>
  <Override PartName="/ppt/media/image43.jpeg" ContentType="image/jpeg"/>
  <Override PartName="/ppt/media/image36.jpeg" ContentType="image/jpeg"/>
  <Override PartName="/ppt/media/image3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20.jpeg" ContentType="image/jpeg"/>
  <Override PartName="/ppt/media/image55.png" ContentType="image/png"/>
  <Override PartName="/ppt/media/image45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5F580-6F3D-4B6C-97AB-1E5EAB0C300E}" type="slidenum">
              <a:rPr b="0" lang="pt-P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00E72-DD97-42B2-BF82-23F96161406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50ED0-DF82-4F01-9C31-81E0D723FC9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F15B3-D9BD-4B70-A2DD-1A0C3D8BB78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66292-AC8B-4985-BE2F-D80727E1C3B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99EF2-3AA4-4194-BA4B-8362504D3A3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CEF14-E04B-4D82-AA1F-CC415E0E5A5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B26CE-ECD3-4E70-9D9C-3DB178F53AB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84069-6E33-4A70-A203-D78F711708E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355BB-528A-4048-91E9-ABEC1B8663F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9A014-4456-48A0-BA7D-E11499B5199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056E5-1138-44B3-A2FA-C3D48161BC3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A79DD-1C40-49AF-874D-0F950600D5E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30874-502E-44AE-B147-AECCDB73FFB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75AFC-2CB3-4FD6-A081-C0EE62D1AF8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C96D7-B548-4F16-A31B-101B739FDCF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4C4E2-A548-4F57-A465-5BEDAEAD805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89F43-313C-455A-A697-8A7BC73E269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C2C1-6F38-46CB-B525-BDCF4B0B4F9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8E6E4-D8F9-4F94-B7AE-2045F8C9BBA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FCB28-4EF2-4F79-A2C0-0903DD3FA96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D6F46-4CF3-4BC9-A546-2E39F1111AD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34A29-10DC-4782-A26C-8A9ACE0C995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0885E-C1CB-4C57-8BD2-E9594D6A052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D84B9-A469-48D2-A6D6-3A0CE6D9592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05902-8D8C-443C-9AE9-76883E3E1E4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29BA9-4513-4398-B1C0-67C7A020B82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B7C04-4D9F-4D98-BF88-AD6F2851E8E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4D6B6-3402-4232-B3DC-87D2B14A082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C076D-A07F-40EB-946E-313E4E0720D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1DD35-9A95-4C26-AE9E-40C954ACE20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8C23D-2514-407B-A491-025AC26F2DA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1A018-943F-4456-976A-7957E1A7474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FD630-392C-4C23-B5AD-5949826CBDF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11896-9209-4B2B-8FFA-70FE5EA0C22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F8C0B-10A7-477C-9297-0C98A09E480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6661B-FA79-4065-AED7-7E06D6F03CB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4E351-0C8F-49AF-AE06-846CE98065E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A795B-A135-4A3A-8D65-AA5099B0CED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E08A1-A82B-4E55-ACA5-2FEB9176805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C21A5-FC7B-44EC-B731-62A97CC260B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BFC57-D82C-4FD1-9295-7977BA1878A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B45FE-2EE4-4467-828C-EAE8E4E13BB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30442-F34A-4406-B8F4-C680918486C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593F-E6CE-4F63-B3F5-44D8E8BB83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6C51-F05E-48F7-9062-E59F6A9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AC32-D9DE-40BE-A636-BE87217D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D8CF-91CF-4D09-A139-7FD75F854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7DF3-111D-4CD8-B15C-9E81F69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7986-6808-4B92-929F-F0BBC113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AFF0-08F1-454B-BACD-813C893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7807-9F40-43E0-83FE-3EB8C931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9907-2002-4389-9473-C9F2DC6C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4889-3C7B-4DA1-A961-33F50104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AE8E-5F2D-45AE-8518-4388BD78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A7C6-18C4-4125-98B5-8760E8F9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7E33E-0997-46F5-BC4B-66EE85D546D8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audio" Target="../media/Iliza%20gomara%20saia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12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692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6000" spc="-1" strike="noStrike">
                <a:solidFill>
                  <a:srgbClr val="4f6228"/>
                </a:solidFill>
                <a:latin typeface="comic"/>
              </a:rPr>
              <a:t>Produçõ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80360" y="4797360"/>
            <a:ext cx="890640" cy="11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64280" y="4805280"/>
            <a:ext cx="90180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86280" y="2328840"/>
            <a:ext cx="29718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0" r="0" b="11150"/>
          <a:stretch/>
        </p:blipFill>
        <p:spPr>
          <a:xfrm>
            <a:off x="1996920" y="0"/>
            <a:ext cx="515016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0" t="0" r="0" b="11150"/>
          <a:stretch/>
        </p:blipFill>
        <p:spPr>
          <a:xfrm>
            <a:off x="2030400" y="0"/>
            <a:ext cx="50832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rcRect l="0" t="0" r="0" b="11150"/>
          <a:stretch/>
        </p:blipFill>
        <p:spPr>
          <a:xfrm>
            <a:off x="2004840" y="0"/>
            <a:ext cx="5134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0" r="0" b="590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rcRect l="5274" t="0" r="5920" b="380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0" b="3420"/>
          <a:stretch/>
        </p:blipFill>
        <p:spPr>
          <a:xfrm>
            <a:off x="220680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rcRect l="0" t="0" r="0" b="5900"/>
          <a:stretch/>
        </p:blipFill>
        <p:spPr>
          <a:xfrm>
            <a:off x="2136600" y="0"/>
            <a:ext cx="48708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622440" cy="90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979640" y="2637000"/>
            <a:ext cx="66816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635280" y="2637000"/>
            <a:ext cx="76536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076720" y="2637000"/>
            <a:ext cx="735120" cy="90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867280" y="2637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659640" y="2637000"/>
            <a:ext cx="646200" cy="90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1258920" y="2637000"/>
            <a:ext cx="63828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4500720" y="2637000"/>
            <a:ext cx="50148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7380360" y="2637000"/>
            <a:ext cx="638280" cy="90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2700360" y="2637000"/>
            <a:ext cx="87624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1111" t="0" r="0" b="10100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0" r="0" b="2751"/>
          <a:stretch/>
        </p:blipFill>
        <p:spPr>
          <a:xfrm>
            <a:off x="1986120" y="0"/>
            <a:ext cx="517176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0" r="0" b="275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0" r="0" b="2438"/>
          <a:stretch/>
        </p:blipFill>
        <p:spPr>
          <a:xfrm>
            <a:off x="2050920" y="0"/>
            <a:ext cx="4692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75164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682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0" t="0" r="0" b="6595"/>
          <a:stretch/>
        </p:blipFill>
        <p:spPr>
          <a:xfrm>
            <a:off x="183528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21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468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0" r="0" b="3420"/>
          <a:stretch/>
        </p:blipFill>
        <p:spPr>
          <a:xfrm>
            <a:off x="2195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0" t="0" r="0" b="6633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0" t="3532" r="0" b="0"/>
          <a:stretch/>
        </p:blipFill>
        <p:spPr>
          <a:xfrm>
            <a:off x="0" y="488880"/>
            <a:ext cx="914400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0" r="0" b="5900"/>
          <a:stretch/>
        </p:blipFill>
        <p:spPr>
          <a:xfrm>
            <a:off x="2136600" y="0"/>
            <a:ext cx="48708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0" t="0" r="0" b="3420"/>
          <a:stretch/>
        </p:blipFill>
        <p:spPr>
          <a:xfrm>
            <a:off x="2195640" y="0"/>
            <a:ext cx="4687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3999" t="0" r="0" b="4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3999" t="0" r="0" b="4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0" r="0" b="275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3104" t="0" r="9203" b="17493"/>
          <a:stretch/>
        </p:blipFill>
        <p:spPr>
          <a:xfrm>
            <a:off x="0" y="0"/>
            <a:ext cx="914544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3537" t="0" r="0" b="10100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9055" t="0" r="2332" b="1115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627280" y="2666880"/>
            <a:ext cx="105408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146480" y="2666880"/>
            <a:ext cx="85104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435640" y="2666880"/>
            <a:ext cx="132084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83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5705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573120" y="0"/>
            <a:ext cx="1032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0" t="0" r="0" b="3801"/>
          <a:stretch/>
        </p:blipFill>
        <p:spPr>
          <a:xfrm>
            <a:off x="2173320" y="0"/>
            <a:ext cx="4797360" cy="687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23:46:31Z</dcterms:created>
  <dc:creator/>
  <dc:description/>
  <dc:language>en-US</dc:language>
  <cp:lastModifiedBy/>
  <dcterms:modified xsi:type="dcterms:W3CDTF">2011-08-24T23:47:24Z</dcterms:modified>
  <cp:revision>1</cp:revision>
  <dc:subject/>
  <dc:title/>
</cp:coreProperties>
</file>