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FA0-5FF6-4AAF-820F-E2E1F095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738-56D9-49DF-B35A-46AD9291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56E-860E-4403-814E-E18695D8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E14-D385-43AE-9129-8CA27327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005-421D-47C1-B4A5-13919223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56A-203C-4749-BA9B-F4265FA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0F2-C17B-4F54-B833-4148E7D4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60E-48A3-45EF-B81F-573698ED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207-2809-432C-9799-40689B42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651-D032-46A6-A43E-C432785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BCC-4C82-4067-8E4C-D33787D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AE4-E7E0-4491-8743-753BB9B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B2B9-E1CD-4EB8-8AE1-C1A6C4A50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59680" cy="8229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39760" y="-457200"/>
            <a:ext cx="5064480" cy="7772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84200" y="-57240"/>
            <a:ext cx="6159600" cy="8363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19280" y="-747720"/>
            <a:ext cx="6056280" cy="864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43120" y="-762120"/>
            <a:ext cx="5657760" cy="8686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-458640"/>
            <a:ext cx="5616720" cy="8888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55840" y="-228600"/>
            <a:ext cx="5511600" cy="8524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6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6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6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-304920"/>
            <a:ext cx="6191280" cy="9753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8800" y="-228600"/>
            <a:ext cx="6026400" cy="8839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95360" y="-2209680"/>
            <a:ext cx="6353280" cy="9753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95360" y="0"/>
            <a:ext cx="6353280" cy="9753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95360" y="-914400"/>
            <a:ext cx="6353280" cy="9753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95360" y="-228600"/>
            <a:ext cx="6353280" cy="9753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9760" y="-762120"/>
            <a:ext cx="6324480" cy="9753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28680" y="-533520"/>
            <a:ext cx="6686640" cy="9753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9:43:41Z</dcterms:created>
  <dc:creator>EL LOCO DE LA COLINA</dc:creator>
  <dc:description/>
  <dc:language>en-US</dc:language>
  <cp:lastModifiedBy>MICROSOFT</cp:lastModifiedBy>
  <dcterms:modified xsi:type="dcterms:W3CDTF">2006-07-04T16:01:51Z</dcterms:modified>
  <cp:revision>5</cp:revision>
  <dc:subject/>
  <dc:title>MADRE DE DIOS</dc:title>
</cp:coreProperties>
</file>