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Chanson%20arabe.wav" ContentType="audio/x-wav"/>
  <Override PartName="/ppt/media/tention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88E-FB3D-44E0-8BC4-2D319721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E50-8944-4B9F-A40E-28618A30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EB0-2208-4C81-81E1-720C2751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769-27DA-4EC8-A261-3231FB61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C71-B911-46B9-9D3E-6A79897A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F1E-45FE-41F7-8421-105DFFE7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9AF-1045-4C7C-9DCE-A11D0849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123-C8BD-4A85-9089-10B11B42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06E-E164-4F76-A2EB-9BB7FE30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159-CC58-425D-B7E1-DFECCF44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92A-2168-4D5D-8286-2A226AD4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2E0-55F9-4DE1-8B85-A93C8EFC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98CF-207F-45CD-9847-069371211E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anson%20arab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entio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dfd293"/>
                </a:solidFill>
                <a:latin typeface="Arial"/>
              </a:rPr>
              <a:t>Voilà la vrai bomb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Plus dange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pour l’Occident que les centrifugeu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anson%20arab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013120" y="0"/>
            <a:ext cx="5116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013120" y="0"/>
            <a:ext cx="5116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013120" y="0"/>
            <a:ext cx="5116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013120" y="0"/>
            <a:ext cx="5116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930320" y="0"/>
            <a:ext cx="528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top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38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bottom"/>
          <p:cNvPicPr/>
          <p:nvPr/>
        </p:nvPicPr>
        <p:blipFill>
          <a:blip r:embed="rId2"/>
          <a:stretch/>
        </p:blipFill>
        <p:spPr>
          <a:xfrm>
            <a:off x="304920" y="6553080"/>
            <a:ext cx="853416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frame"/>
          <p:cNvPicPr/>
          <p:nvPr/>
        </p:nvPicPr>
        <p:blipFill>
          <a:blip r:embed="rId3"/>
          <a:stretch/>
        </p:blipFill>
        <p:spPr>
          <a:xfrm>
            <a:off x="0" y="0"/>
            <a:ext cx="3808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frame"/>
          <p:cNvPicPr/>
          <p:nvPr/>
        </p:nvPicPr>
        <p:blipFill>
          <a:blip r:embed="rId4"/>
          <a:stretch/>
        </p:blipFill>
        <p:spPr>
          <a:xfrm>
            <a:off x="8686800" y="0"/>
            <a:ext cx="4572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1688040" y="2454120"/>
            <a:ext cx="596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Attention les US vont riposter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Maxence\Desktop\Bombe US.jpg"/>
          <p:cNvPicPr/>
          <p:nvPr/>
        </p:nvPicPr>
        <p:blipFill>
          <a:blip r:embed="rId1"/>
          <a:stretch/>
        </p:blipFill>
        <p:spPr>
          <a:xfrm>
            <a:off x="533520" y="544680"/>
            <a:ext cx="8001000" cy="5716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  <p:sndAc>
      <p:stSnd>
        <p:snd r:embed="rId2" name="tentio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081160" y="0"/>
            <a:ext cx="4979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Rectangle 1027"/>
          <p:cNvSpPr/>
          <p:nvPr/>
        </p:nvSpPr>
        <p:spPr>
          <a:xfrm>
            <a:off x="2013120" y="0"/>
            <a:ext cx="5116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984240" y="0"/>
            <a:ext cx="7175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146320" y="0"/>
            <a:ext cx="4851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Rectangle 1027"/>
          <p:cNvSpPr/>
          <p:nvPr/>
        </p:nvSpPr>
        <p:spPr>
          <a:xfrm>
            <a:off x="2013120" y="0"/>
            <a:ext cx="5116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378000"/>
            <a:ext cx="9144000" cy="610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013120" y="0"/>
            <a:ext cx="5116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013120" y="0"/>
            <a:ext cx="5116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2:18:20Z</dcterms:created>
  <dc:creator>User</dc:creator>
  <dc:description/>
  <dc:language>en-US</dc:language>
  <cp:lastModifiedBy>Utilizador</cp:lastModifiedBy>
  <dcterms:modified xsi:type="dcterms:W3CDTF">2017-09-06T15:48:49Z</dcterms:modified>
  <cp:revision>6</cp:revision>
  <dc:subject/>
  <dc:title>Voilà la vrai bomb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