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784-0F93-429A-BBCD-DD5DEC21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208-EA7F-48FA-AC35-183F054C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D7A-097A-4723-928B-26D5D4A3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EB1-D305-4BEA-BE4F-81C11D52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1AE-3645-452D-8A89-31791E41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CE9-7255-4F12-8372-893DF569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E5D-4583-4803-BC89-BD3C571C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F85-7E4A-4CB7-92EB-64737DD9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D69-63E7-4BAE-8560-0DB898E8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C87-AED5-48CA-8D40-03E0453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F31-4229-47D9-B99C-7AF6D8A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6CC-16AF-46A3-9D23-A2B1E25A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F102-610C-4077-88AB-AF4F58BEB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5591" t="0" r="0" b="55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6283" b="6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7510" r="0" b="5251"/>
          <a:stretch/>
        </p:blipFill>
        <p:spPr>
          <a:xfrm>
            <a:off x="1333440" y="0"/>
            <a:ext cx="6551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5538" r="0" b="3438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4918" r="0" b="0"/>
          <a:stretch/>
        </p:blipFill>
        <p:spPr>
          <a:xfrm>
            <a:off x="183528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3978" r="0" b="6024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280" t="6272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14845" r="0" b="4230"/>
          <a:stretch/>
        </p:blipFill>
        <p:spPr>
          <a:xfrm>
            <a:off x="1403280" y="0"/>
            <a:ext cx="6356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20000"/>
          <a:stretch/>
        </p:blipFill>
        <p:spPr>
          <a:xfrm>
            <a:off x="1357200" y="0"/>
            <a:ext cx="64296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4157" t="3798" r="0" b="0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3882" r="0" b="60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68400" y="0"/>
            <a:ext cx="46404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6250" r="0" b="0"/>
          <a:stretch/>
        </p:blipFill>
        <p:spPr>
          <a:xfrm>
            <a:off x="1141560" y="0"/>
            <a:ext cx="6886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3802" t="3024" r="0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6318" t="3024" r="7483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1522" t="0" r="0" b="0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6811" t="613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5602" t="4109" r="5279" b="0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8964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6698" r="0" b="11348"/>
          <a:stretch/>
        </p:blipFill>
        <p:spPr>
          <a:xfrm>
            <a:off x="180828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6961" t="0" r="0" b="0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11506" b="0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4980" t="4943" r="4795" b="494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5669" t="5738" r="4106" b="4149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1893960" y="0"/>
            <a:ext cx="5414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4943"/>
          <a:stretch/>
        </p:blipFill>
        <p:spPr>
          <a:xfrm>
            <a:off x="1582560" y="0"/>
            <a:ext cx="6013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9776" t="2775" r="0" b="6995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9776" t="2633" r="0" b="714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11509" b="0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4998" r="0" b="4998"/>
          <a:stretch/>
        </p:blipFill>
        <p:spPr>
          <a:xfrm>
            <a:off x="1523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2900" r="0" b="0"/>
          <a:stretch/>
        </p:blipFill>
        <p:spPr>
          <a:xfrm>
            <a:off x="1476360" y="0"/>
            <a:ext cx="6126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-6000"/>
          </a:blip>
          <a:srcRect l="0" t="0" r="11507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10880" b="0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35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0266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1208" r="0" b="21627"/>
          <a:stretch/>
        </p:blipFill>
        <p:spPr>
          <a:xfrm>
            <a:off x="892080" y="0"/>
            <a:ext cx="7351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4162" r="0" b="4122"/>
          <a:stretch/>
        </p:blipFill>
        <p:spPr>
          <a:xfrm>
            <a:off x="2050920" y="0"/>
            <a:ext cx="4984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23:19:28Z</dcterms:created>
  <dc:creator/>
  <dc:description/>
  <dc:language>en-US</dc:language>
  <cp:lastModifiedBy>Jorge Murillo Heredia</cp:lastModifiedBy>
  <dcterms:modified xsi:type="dcterms:W3CDTF">2008-12-07T03:40:45Z</dcterms:modified>
  <cp:revision>11</cp:revision>
  <dc:subject/>
  <dc:title>Diapositiva 1</dc:title>
</cp:coreProperties>
</file>