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10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28.jpeg" ContentType="image/jpeg"/>
  <Override PartName="/ppt/media/image34.jpeg" ContentType="image/jpeg"/>
  <Override PartName="/ppt/media/image44.gif" ContentType="image/gif"/>
  <Override PartName="/ppt/media/image43.jpeg" ContentType="image/jpeg"/>
  <Override PartName="/ppt/media/image40.jpeg" ContentType="image/jpeg"/>
  <Override PartName="/ppt/media/image13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7.jpeg" ContentType="image/jpeg"/>
  <Override PartName="/ppt/media/image38.jpeg" ContentType="image/jpeg"/>
  <Override PartName="/ppt/media/image5.gif" ContentType="image/gif"/>
  <Override PartName="/ppt/media/image41.jpeg" ContentType="image/jpeg"/>
  <Override PartName="/ppt/media/image1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AB8F0-E906-41A7-963F-C5045D5F3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0" y="3746880"/>
            <a:ext cx="91440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CD61F-D486-4A24-B8DC-4D7A0555B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0" y="3746880"/>
            <a:ext cx="44622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5760" y="3746880"/>
            <a:ext cx="44622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F79C7-3493-46EF-86C8-2E3666C58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29440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91680" y="761760"/>
            <a:ext cx="29440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83360" y="761760"/>
            <a:ext cx="29440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0" y="3746880"/>
            <a:ext cx="29440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91680" y="3746880"/>
            <a:ext cx="29440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83360" y="3746880"/>
            <a:ext cx="29440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A6323-67C2-42A6-849F-E7A908114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77F41-0770-413E-9F4F-306739599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0" y="76176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952A1-6E50-4B7A-B29B-A50640795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07C8A-C3D4-46BA-9ECA-E5E0F7791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B6463-541B-4C0F-8073-8BBC05ADC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913A5-6372-4D7F-B890-9DDC2E221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6511D-9624-46CA-A091-241C2C520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0" y="3746880"/>
            <a:ext cx="44622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5C1DD-80F2-44D7-93D3-7B996A9EE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0" y="76176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7AF88-0068-480F-A315-784A58425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85760" y="3746880"/>
            <a:ext cx="44622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BF9AD-CE2F-4EF9-9F52-E94D7B245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0" y="3746880"/>
            <a:ext cx="91440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F5746-3137-41E1-A59B-5CEC44B24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0" y="3746880"/>
            <a:ext cx="91440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2F8F0-43C8-43B2-A616-DDE512BA0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0" y="3746880"/>
            <a:ext cx="44622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85760" y="3746880"/>
            <a:ext cx="44622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EDBAB-9819-4880-8B37-E612888E1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29440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091680" y="761760"/>
            <a:ext cx="29440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83360" y="761760"/>
            <a:ext cx="29440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0" y="3746880"/>
            <a:ext cx="29440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091680" y="3746880"/>
            <a:ext cx="29440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83360" y="3746880"/>
            <a:ext cx="29440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892EA-DF0D-4C45-B3C6-7E7F439F8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90A70-F591-445A-B0E4-CD6F3DAB8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9DF17-80C4-42F6-A234-DE9AA1C16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6F8C2-F4AF-4216-870B-069023FFE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92741-4DBF-40FD-B33C-E484C877C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0" y="3746880"/>
            <a:ext cx="44622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0C9CF-64EA-47DF-81A0-E82E0BDE4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5760" y="3746880"/>
            <a:ext cx="44622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04C97-7CC4-4442-B99C-B3369C31D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0" y="3746880"/>
            <a:ext cx="91440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61D82-2F28-424E-973D-A12DF707A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76176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360" y="6660720"/>
            <a:ext cx="213372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09920" y="6689520"/>
            <a:ext cx="2133720" cy="1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5B095-0DC5-4F57-B836-BA0E33669356}" type="slidenum">
              <a:rPr b="1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4266720"/>
            <a:ext cx="91440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-36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 Black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00992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BC308-DB14-4ECD-A0E1-CC935B22B2CC}" type="slidenum">
              <a:rPr b="0" lang="en-US" sz="10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gif"/><Relationship Id="rId5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3.jpeg"/><Relationship Id="rId3" Type="http://schemas.openxmlformats.org/officeDocument/2006/relationships/image" Target="../media/image44.gif"/><Relationship Id="rId4" Type="http://schemas.openxmlformats.org/officeDocument/2006/relationships/image" Target="../media/image44.gif"/><Relationship Id="rId5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2" name=""/>
          <p:cNvSpPr/>
          <p:nvPr/>
        </p:nvSpPr>
        <p:spPr>
          <a:xfrm>
            <a:off x="2000160" y="0"/>
            <a:ext cx="514368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8182080" y="0"/>
            <a:ext cx="961920" cy="9907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428840" cy="76212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2" name=""/>
          <p:cNvSpPr/>
          <p:nvPr/>
        </p:nvSpPr>
        <p:spPr>
          <a:xfrm>
            <a:off x="2286000" y="0"/>
            <a:ext cx="457200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4" name=""/>
          <p:cNvSpPr/>
          <p:nvPr/>
        </p:nvSpPr>
        <p:spPr>
          <a:xfrm>
            <a:off x="2286000" y="0"/>
            <a:ext cx="457200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0"/>
            <a:ext cx="457200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8" name=""/>
          <p:cNvSpPr/>
          <p:nvPr/>
        </p:nvSpPr>
        <p:spPr>
          <a:xfrm>
            <a:off x="2286000" y="0"/>
            <a:ext cx="457200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0" name=""/>
          <p:cNvSpPr/>
          <p:nvPr/>
        </p:nvSpPr>
        <p:spPr>
          <a:xfrm>
            <a:off x="2286000" y="0"/>
            <a:ext cx="457200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2" name=""/>
          <p:cNvSpPr/>
          <p:nvPr/>
        </p:nvSpPr>
        <p:spPr>
          <a:xfrm>
            <a:off x="2286000" y="0"/>
            <a:ext cx="457200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0"/>
            <a:ext cx="10476000" cy="698328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6" name=""/>
          <p:cNvSpPr/>
          <p:nvPr/>
        </p:nvSpPr>
        <p:spPr>
          <a:xfrm>
            <a:off x="-108000" y="0"/>
            <a:ext cx="10476000" cy="698328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8" name=""/>
          <p:cNvSpPr/>
          <p:nvPr/>
        </p:nvSpPr>
        <p:spPr>
          <a:xfrm>
            <a:off x="-1260360" y="0"/>
            <a:ext cx="10404360" cy="693576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fade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0" name=""/>
          <p:cNvSpPr/>
          <p:nvPr/>
        </p:nvSpPr>
        <p:spPr>
          <a:xfrm>
            <a:off x="-828720" y="-552600"/>
            <a:ext cx="11304720" cy="753588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6" name=""/>
          <p:cNvSpPr/>
          <p:nvPr/>
        </p:nvSpPr>
        <p:spPr>
          <a:xfrm>
            <a:off x="0" y="0"/>
            <a:ext cx="10333080" cy="688824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2" name=""/>
          <p:cNvSpPr/>
          <p:nvPr/>
        </p:nvSpPr>
        <p:spPr>
          <a:xfrm>
            <a:off x="2286000" y="0"/>
            <a:ext cx="457200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fade thruBlk="true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0"/>
            <a:ext cx="10333080" cy="688824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fade thruBlk="true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0"/>
            <a:ext cx="10404360" cy="693576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fade thruBlk="true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8" name=""/>
          <p:cNvSpPr/>
          <p:nvPr/>
        </p:nvSpPr>
        <p:spPr>
          <a:xfrm>
            <a:off x="-1260360" y="0"/>
            <a:ext cx="10404360" cy="693576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fade thruBlk="true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380880"/>
            <a:ext cx="9144000" cy="609624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fade thruBlk="true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380880"/>
            <a:ext cx="9144000" cy="609624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fade thruBlk="true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34" name=""/>
          <p:cNvSpPr/>
          <p:nvPr/>
        </p:nvSpPr>
        <p:spPr>
          <a:xfrm>
            <a:off x="2286000" y="0"/>
            <a:ext cx="457200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fade thruBlk="true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36" name=""/>
          <p:cNvSpPr/>
          <p:nvPr/>
        </p:nvSpPr>
        <p:spPr>
          <a:xfrm>
            <a:off x="2286000" y="0"/>
            <a:ext cx="457200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fade thruBlk="true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0"/>
            <a:ext cx="457200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fade thruBlk="true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0"/>
            <a:ext cx="457200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8" name=""/>
          <p:cNvSpPr/>
          <p:nvPr/>
        </p:nvSpPr>
        <p:spPr>
          <a:xfrm>
            <a:off x="2286000" y="0"/>
            <a:ext cx="457200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fade thruBlk="true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0"/>
            <a:ext cx="10333080" cy="688824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fade thruBlk="true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44" name=""/>
          <p:cNvSpPr/>
          <p:nvPr/>
        </p:nvSpPr>
        <p:spPr>
          <a:xfrm>
            <a:off x="-1908000" y="-1108080"/>
            <a:ext cx="12168000" cy="811224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fade thruBlk="true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46" name=""/>
          <p:cNvSpPr/>
          <p:nvPr/>
        </p:nvSpPr>
        <p:spPr>
          <a:xfrm>
            <a:off x="2286000" y="0"/>
            <a:ext cx="457200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fade thruBlk="true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48" name=""/>
          <p:cNvSpPr/>
          <p:nvPr/>
        </p:nvSpPr>
        <p:spPr>
          <a:xfrm>
            <a:off x="2286000" y="0"/>
            <a:ext cx="457200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fade thruBlk="true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50" name=""/>
          <p:cNvSpPr/>
          <p:nvPr/>
        </p:nvSpPr>
        <p:spPr>
          <a:xfrm>
            <a:off x="2286000" y="0"/>
            <a:ext cx="457200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fade thruBlk="true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52" name=""/>
          <p:cNvSpPr/>
          <p:nvPr/>
        </p:nvSpPr>
        <p:spPr>
          <a:xfrm>
            <a:off x="2286000" y="0"/>
            <a:ext cx="457200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fade thruBlk="true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0" y="0"/>
            <a:ext cx="457200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fade thruBlk="true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0"/>
            <a:ext cx="10476000" cy="698328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fade thruBlk="true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58" name=""/>
          <p:cNvSpPr/>
          <p:nvPr/>
        </p:nvSpPr>
        <p:spPr>
          <a:xfrm>
            <a:off x="2286000" y="0"/>
            <a:ext cx="457200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fade thruBlk="true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0" y="0"/>
            <a:ext cx="457200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258920" cy="97776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4"/>
          <a:stretch/>
        </p:blipFill>
        <p:spPr>
          <a:xfrm>
            <a:off x="7918560" y="0"/>
            <a:ext cx="1225440" cy="95256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fade thruBlk="true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4000"/>
                            </p:stCondLst>
                            <p:childTnLst>
                              <p:par>
                                <p:cTn id="30" nodeType="afterEffect" fill="hold" presetClass="exit" presetID="7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1" dur="500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9000"/>
                            </p:stCondLst>
                            <p:childTnLst>
                              <p:par>
                                <p:cTn id="35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0" name=""/>
          <p:cNvSpPr/>
          <p:nvPr/>
        </p:nvSpPr>
        <p:spPr>
          <a:xfrm>
            <a:off x="2286000" y="0"/>
            <a:ext cx="457200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2" name=""/>
          <p:cNvSpPr/>
          <p:nvPr/>
        </p:nvSpPr>
        <p:spPr>
          <a:xfrm>
            <a:off x="2286000" y="0"/>
            <a:ext cx="457200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4" name=""/>
          <p:cNvSpPr/>
          <p:nvPr/>
        </p:nvSpPr>
        <p:spPr>
          <a:xfrm>
            <a:off x="2286000" y="0"/>
            <a:ext cx="457200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6" name=""/>
          <p:cNvSpPr/>
          <p:nvPr/>
        </p:nvSpPr>
        <p:spPr>
          <a:xfrm>
            <a:off x="2286000" y="0"/>
            <a:ext cx="457200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8" name=""/>
          <p:cNvSpPr/>
          <p:nvPr/>
        </p:nvSpPr>
        <p:spPr>
          <a:xfrm>
            <a:off x="2286000" y="0"/>
            <a:ext cx="457200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0" name=""/>
          <p:cNvSpPr/>
          <p:nvPr/>
        </p:nvSpPr>
        <p:spPr>
          <a:xfrm>
            <a:off x="2286000" y="0"/>
            <a:ext cx="457200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2T19:20:57Z</dcterms:created>
  <dc:creator>ge</dc:creator>
  <dc:description/>
  <dc:language>en-US</dc:language>
  <cp:lastModifiedBy>ge</cp:lastModifiedBy>
  <dcterms:modified xsi:type="dcterms:W3CDTF">2009-04-02T19:25:27Z</dcterms:modified>
  <cp:revision>4</cp:revision>
  <dc:subject/>
  <dc:title>Dia 1</dc:title>
</cp:coreProperties>
</file>