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sound001.wav" ContentType="audio/x-wav"/>
  <Override PartName="/ppt/media/image12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AE73-B03C-469A-96C8-18D4C277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207-A06A-41B2-BB1F-53DFCB1E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FFBE-E244-4ABC-AC6D-D63E59DB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356-8C55-4C5D-95F0-9BCC0BAA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09BB-7922-4CE3-896A-2D3CE56F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7E88-B8A5-476A-A2CF-CF56E584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B13C-4CD7-4789-AB10-CD39F944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4BC3-2C2D-4500-A0E0-C93B18ED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8C02-7CD0-4923-B8A5-9F45AD0F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C56B-FCA5-4CEF-9611-C72BD8AC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4D96-03EB-4BCB-B094-585F9F33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D150-A568-459B-B3F9-1EE54CAD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AD0D-65B7-480B-987B-56841ED8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A11F-B14B-4B83-943A-CF16C3EF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09D9-86FA-4E7F-8598-5BF5A718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DCA9-A02E-49AC-8F30-D523AECA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F6D9-8DB1-498C-B5DD-DB316B21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B67-DDED-4674-8CBE-5C825A97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5FA9-23A9-4805-93EA-32FBC405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ADC-AFF7-4FC1-9AB7-4688EF7D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D37-254B-4E38-9AB2-D419F252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0A3-730E-4A69-A7EB-53B9B146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4A8-1A65-4B8D-BAC9-7BCA77EF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AB7-E115-4610-9374-5ADE52AB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1985-C2B5-4E2A-A5F7-A3202225143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1FB8-BBBB-4E63-A30E-273B9FF5C29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sound001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0600" y="333360"/>
            <a:ext cx="497340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4000" y="1676160"/>
            <a:ext cx="378000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Tahoma"/>
                <a:ea typeface="新細明體"/>
              </a:rPr>
              <a:t>荔枝園、品茶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randomBar dir="vert"/>
    <p:sndAc>
      <p:stSnd>
        <p:snd r:embed="rId3" name="sound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00200" y="-793800"/>
            <a:ext cx="5780160" cy="8686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124000" y="-177840"/>
            <a:ext cx="4891320" cy="735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36360" y="380880"/>
            <a:ext cx="9248760" cy="6143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28680" y="-466560"/>
            <a:ext cx="4891320" cy="7351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28680" y="-466560"/>
            <a:ext cx="4891320" cy="7351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28680" y="-466560"/>
            <a:ext cx="4891320" cy="7351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28680" y="-466560"/>
            <a:ext cx="4891320" cy="7351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55760" y="-100080"/>
            <a:ext cx="4621320" cy="6945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03280" y="-1744560"/>
            <a:ext cx="6222960" cy="9350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403280" y="-2475000"/>
            <a:ext cx="6222960" cy="9350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36360" y="379440"/>
            <a:ext cx="9248760" cy="6145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38400" y="-1581120"/>
            <a:ext cx="6667200" cy="10020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38400" y="-1119240"/>
            <a:ext cx="6667200" cy="10020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28680" y="-466560"/>
            <a:ext cx="4891320" cy="7351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128680" y="-466560"/>
            <a:ext cx="4891320" cy="7351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144880" y="-34920"/>
            <a:ext cx="4803480" cy="7219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31920" y="-460440"/>
            <a:ext cx="4888080" cy="7345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128680" y="-177840"/>
            <a:ext cx="4891320" cy="735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898640" y="-847800"/>
            <a:ext cx="5337360" cy="80218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898640" y="-819000"/>
            <a:ext cx="5337360" cy="8021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58920" y="-2187720"/>
            <a:ext cx="6667560" cy="10020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6360" y="380880"/>
            <a:ext cx="9248760" cy="6143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-243000"/>
            <a:ext cx="4891320" cy="735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-36360" y="1558800"/>
            <a:ext cx="9262800" cy="5326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nd</a:t>
            </a:r>
            <a:br>
              <a:rPr sz="44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2010 Jijigbaatar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 advTm="6000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128680" y="-466560"/>
            <a:ext cx="4891320" cy="7351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128680" y="-177840"/>
            <a:ext cx="4891320" cy="735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01880" y="-770040"/>
            <a:ext cx="5334120" cy="8015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28680" y="-243000"/>
            <a:ext cx="4891320" cy="735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28680" y="-177840"/>
            <a:ext cx="4891320" cy="735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28680" y="-243000"/>
            <a:ext cx="4891320" cy="735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71480" y="-1442880"/>
            <a:ext cx="5780160" cy="8688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7:31:18Z</dcterms:created>
  <dc:creator>User</dc:creator>
  <dc:description/>
  <dc:language>en-US</dc:language>
  <cp:lastModifiedBy>Customer</cp:lastModifiedBy>
  <dcterms:modified xsi:type="dcterms:W3CDTF">2011-05-11T12:06:48Z</dcterms:modified>
  <cp:revision>4</cp:revision>
  <dc:subject/>
  <dc:title>投影片 1</dc:title>
</cp:coreProperties>
</file>