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7C33-49DB-4651-A421-C4DA9B518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A0EF-48B5-48F3-B03C-935E94BAE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EB3D-82A2-4CA0-BD26-803C56CBC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F731-166C-46CF-86A1-096C43A01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BB04-347D-4F1A-8D74-D3C20BE6A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6AF1-DA89-48E0-B389-F1D72AC7D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FD54-26CE-499B-A097-FF774CF09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1CB1-8D2B-4CCA-B1AC-960137079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61B8-AF91-4C43-8359-DE2086D2E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181E-8043-42B0-BB5A-0AB36780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D235-EA73-4139-95CB-046109E3A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4DDC-4934-4258-AF2D-E5ACF5FE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49BFE-3094-46FE-8881-B46DD5F4A69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4560" y="0"/>
            <a:ext cx="457344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79440"/>
            <a:ext cx="9144000" cy="60991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newsflash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4560" y="0"/>
            <a:ext cx="457344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4560" y="0"/>
            <a:ext cx="457344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newsflash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8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84120"/>
            <a:ext cx="9144000" cy="60897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newsflash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4560" y="0"/>
            <a:ext cx="457344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84120"/>
            <a:ext cx="9144000" cy="60897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newsflash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8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84120"/>
            <a:ext cx="9144000" cy="60897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newsflash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mph" presetID="6" repeatCount="2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" dur="2000" fill="hold"/>
                                        <p:tgtEl>
                                          <p:spTgt spid="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4560" y="0"/>
            <a:ext cx="457344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newsflash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13:13:28Z</dcterms:created>
  <dc:creator>Ge</dc:creator>
  <dc:description/>
  <dc:language>en-US</dc:language>
  <cp:lastModifiedBy>Administrador</cp:lastModifiedBy>
  <dcterms:modified xsi:type="dcterms:W3CDTF">2008-01-04T04:15:00Z</dcterms:modified>
  <cp:revision>11</cp:revision>
  <dc:subject/>
  <dc:title>Fotoalbum</dc:title>
</cp:coreProperties>
</file>