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breez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89C-EC25-40C1-A2A8-9F318CB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9DA-EE75-44B2-9142-048E03C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633-C68B-48BB-A438-5713A510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0FA-2D46-4276-A9E2-E5D17523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31F-E900-48A7-A485-6FDD61F8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6A8-BAA1-406A-885E-874FC17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CFC-C7A9-4ED8-AC5C-8CA6E2E4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9B0-07C8-4A8B-AB70-04563EDD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EEC-A608-4D67-A566-1ECF2B1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15F-5FF1-4C49-A99A-2D95178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09C-582C-4EC7-ABDB-E1A6206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CAA-F649-48F7-847D-5509D69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D7F4-5F21-42DF-857A-1169238ED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Veja por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guns cientistas descobriram que os asiáticos apresentam níveis de colesterol mais baixos que os ocidentais e resolveram examinar de perto a cozinha, seus pratos e ingredien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47847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ssim: 14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352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Bom apetit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  <p:sndAc>
      <p:stSnd>
        <p:snd r:embed="rId1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609588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shi: 140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4746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6095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hop-suei: 18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iz cantonesa: 14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9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pa chinesa: 17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4952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ça de saké: 4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89480" y="0"/>
            <a:ext cx="4754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257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zido de arroz: 21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563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FÚ: 3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5880" y="5715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nzai: 12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3:33:38Z</dcterms:created>
  <dc:creator>*</dc:creator>
  <dc:description/>
  <dc:language>en-US</dc:language>
  <cp:lastModifiedBy>Wert</cp:lastModifiedBy>
  <dcterms:modified xsi:type="dcterms:W3CDTF">2005-03-08T04:59:43Z</dcterms:modified>
  <cp:revision>14</cp:revision>
  <dc:subject/>
  <dc:title>Asian star</dc:title>
</cp:coreProperties>
</file>