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286-6AA5-48FF-A1E7-665BDA7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AC3-FE3F-43E4-AE54-AA00DEA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03D-D28C-42E6-8EA7-4C1BD861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48F-5EAA-47B7-BC1B-E9F4B937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E9D-8008-41D6-9BFA-07111932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59F-66D0-40EC-B745-B4A3373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395-4EF4-4EEC-85E5-BE1F7BBE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3C8-0AB9-41D4-A50A-59612F5A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16D-F74E-42C7-BE11-EA16B4AC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154-EFC9-4AB1-B836-F512A61F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B35-9FDB-473A-8175-8A0D230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A81-9DD6-4EAF-BD5B-2CF6D4E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18C-E6CE-4C76-8FDD-F8A423A3F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115920"/>
            <a:ext cx="487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UIDAD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BRAM BEM OS OLH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5791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3333" r="3331" b="0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71640" y="1268280"/>
            <a:ext cx="2667240" cy="990720"/>
          </a:xfrm>
          <a:prstGeom prst="wedgeRoundRectCallout">
            <a:avLst>
              <a:gd name="adj1" fmla="val -56666"/>
              <a:gd name="adj2" fmla="val 69870"/>
              <a:gd name="adj3" fmla="val 16667"/>
            </a:avLst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XA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848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5:36:31Z</dcterms:created>
  <dc:creator/>
  <dc:description/>
  <dc:language>en-US</dc:language>
  <cp:lastModifiedBy>jalles guimaraes</cp:lastModifiedBy>
  <dcterms:modified xsi:type="dcterms:W3CDTF">2011-03-16T15:53:18Z</dcterms:modified>
  <cp:revision>35</cp:revision>
  <dc:subject/>
  <dc:title>QUEDA PROHIBIDO...</dc:title>
</cp:coreProperties>
</file>