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1A3-5A0C-4F89-B53E-EC6F1C70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4A7-CDAC-4069-B349-3019A282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120-A225-4AEE-B99A-F562A48B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BF0-8DE1-4850-89C1-5FED7ECA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706-534B-417E-9765-E00F888F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27C-A895-44B1-8C70-79BED6D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4EC-308D-40A7-9BC6-D2EC3298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704-AF4B-4C54-9676-C16BBDB1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E1E-FA49-4EEF-B56D-E3FE94C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5D5-27F2-4FCC-BF1F-A40BBB1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CE7-71DC-4472-8F64-93C6F0D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DDB-609F-43E0-A116-B41C8B65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EB7-7F9F-471A-BA16-01AB8BE31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0" y="1628640"/>
            <a:ext cx="9144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ffff00"/>
                </a:solidFill>
                <a:latin typeface="Century Gothic"/>
              </a:rPr>
              <a:t>si no quieres convertirte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ES" sz="4100" spc="-1" strike="noStrike">
                <a:solidFill>
                  <a:srgbClr val="ffff00"/>
                </a:solidFill>
                <a:latin typeface="Century Gothic"/>
              </a:rPr>
              <a:t>en  un  </a:t>
            </a:r>
            <a:r>
              <a:rPr b="1" i="1" lang="es-ES" sz="4100" spc="-1" strike="noStrike">
                <a:solidFill>
                  <a:srgbClr val="dab000"/>
                </a:solidFill>
                <a:latin typeface="Century Gothic"/>
              </a:rPr>
              <a:t>mariconaz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entury Gothic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00"/>
                </a:solidFill>
                <a:latin typeface="Century Gothic"/>
              </a:rPr>
              <a:t>no borres este correo</a:t>
            </a:r>
            <a:r>
              <a:rPr b="1" lang="es-ES" sz="3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496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25520" y="0"/>
            <a:ext cx="4651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92240" y="0"/>
            <a:ext cx="5100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5900"/>
            </a:gs>
            <a:gs pos="100000">
              <a:srgbClr val="3d2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65200" y="0"/>
            <a:ext cx="620244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2560" y="-27000"/>
            <a:ext cx="489744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71640" y="0"/>
            <a:ext cx="5364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87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4d4d4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29527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84720" y="0"/>
            <a:ext cx="3483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160720" y="0"/>
            <a:ext cx="478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3500"/>
            </a:gs>
            <a:gs pos="50000">
              <a:srgbClr val="e67300"/>
            </a:gs>
            <a:gs pos="100000">
              <a:srgbClr val="6a3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6216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0"/>
            <a:ext cx="7812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79760" y="0"/>
            <a:ext cx="4764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84240" y="0"/>
            <a:ext cx="5351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4480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050920" y="0"/>
            <a:ext cx="500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9784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33560" y="0"/>
            <a:ext cx="5230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ffffff"/>
            </a:gs>
            <a:gs pos="100000">
              <a:srgbClr val="29292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00160" y="0"/>
            <a:ext cx="6856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034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4784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3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Rectángulo"/>
          <p:cNvSpPr/>
          <p:nvPr/>
        </p:nvSpPr>
        <p:spPr>
          <a:xfrm>
            <a:off x="179280" y="1413000"/>
            <a:ext cx="87854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1" lang="es-ES" sz="4000" spc="-1" strike="noStrike">
                <a:solidFill>
                  <a:srgbClr val="ffc000"/>
                </a:solidFill>
                <a:latin typeface="Century Gothic"/>
              </a:rPr>
              <a:t>COMO NO PASES ESTE COR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000"/>
                </a:solidFill>
                <a:latin typeface="Century Gothic"/>
              </a:rPr>
              <a:t>    </a:t>
            </a:r>
            <a:r>
              <a:rPr b="1" lang="es-ES" sz="4000" spc="-1" strike="noStrike">
                <a:solidFill>
                  <a:srgbClr val="ffc000"/>
                </a:solidFill>
                <a:latin typeface="Century Gothic"/>
              </a:rPr>
              <a:t>A TUS COLEGAS </a:t>
            </a:r>
            <a:r>
              <a:rPr b="1" lang="es-ES" sz="4100" spc="-1" strike="noStrike">
                <a:solidFill>
                  <a:srgbClr val="ffc000"/>
                </a:solidFill>
                <a:latin typeface="Century Gothic"/>
              </a:rPr>
              <a:t>SERA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1" lang="es-ES" sz="4100" spc="-1" strike="noStrike">
                <a:solidFill>
                  <a:srgbClr val="ffc000"/>
                </a:solidFill>
                <a:latin typeface="Century Gothic"/>
              </a:rPr>
              <a:t>CONSIDERADO  UN</a:t>
            </a:r>
            <a:r>
              <a:rPr b="1" lang="es-ES" sz="40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1" lang="es-ES" sz="4100" spc="-1" strike="noStrike">
                <a:solidFill>
                  <a:srgbClr val="ffc000"/>
                </a:solidFill>
                <a:latin typeface="Century Gothic"/>
              </a:rPr>
              <a:t>AUTENTICO</a:t>
            </a:r>
            <a:r>
              <a:rPr b="1" lang="es-ES" sz="4000" spc="-1" strike="noStrike">
                <a:solidFill>
                  <a:srgbClr val="ffc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1" i="1" lang="es-ES" sz="4200" spc="-1" strike="noStrike">
                <a:solidFill>
                  <a:srgbClr val="dab000"/>
                </a:solidFill>
                <a:latin typeface="Century Gothic"/>
              </a:rPr>
              <a:t>MARICONAZ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336760" y="0"/>
            <a:ext cx="4467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47" t="0" r="48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1:48:34Z</dcterms:created>
  <dc:creator>Emílio da Silva Pereira Neto</dc:creator>
  <dc:description/>
  <dc:language>en-US</dc:language>
  <cp:lastModifiedBy>Luis</cp:lastModifiedBy>
  <dcterms:modified xsi:type="dcterms:W3CDTF">2010-09-14T15:45:48Z</dcterms:modified>
  <cp:revision>22</cp:revision>
  <dc:subject/>
  <dc:title>Slide 1</dc:title>
</cp:coreProperties>
</file>