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5790-8C66-43E4-8349-C917617DF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DDC6-50F4-4899-97FD-92332860C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7A6A-59A1-4FC2-8A76-73B1F04BE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44AF-FC8E-4EDE-BE1A-CA4B4FADB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C376-1056-43E4-9B6D-44D1D2165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FE80-8725-420F-ADC5-22EAA3108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A46F-1E6B-461D-BB1C-063A46818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0195-E5EE-4690-92D9-50DA69841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6950-DD4D-4897-88FD-3243CDF32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346A-3D07-4647-9294-BC69206A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1F95-5453-4FAB-BE59-4C483434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A886-4BE7-4706-B875-36DBB7FB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5A4EC-EE41-494C-8CB2-4A6283CB9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979640" y="2825640"/>
            <a:ext cx="649440" cy="53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*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708360" y="2852640"/>
            <a:ext cx="649440" cy="53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*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859280" y="1197000"/>
            <a:ext cx="649440" cy="53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*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515280" y="1197000"/>
            <a:ext cx="649080" cy="53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*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11280" y="2781360"/>
            <a:ext cx="433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*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258920" y="2781360"/>
            <a:ext cx="433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*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210200" y="1052640"/>
            <a:ext cx="4330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*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210200" y="1413000"/>
            <a:ext cx="4330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*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492360" y="3860640"/>
            <a:ext cx="43344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*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435640" y="2276640"/>
            <a:ext cx="4334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*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486900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600" spc="-1" strike="noStrike">
                <a:solidFill>
                  <a:srgbClr val="ff33cc"/>
                </a:solidFill>
                <a:latin typeface="Comic Sans MS"/>
              </a:rPr>
              <a:t>Una lindur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64533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cc"/>
                </a:solidFill>
                <a:latin typeface="Arial"/>
              </a:rPr>
              <a:t>Déjalas cor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43200000">
                                      <p:cBhvr>
                                        <p:cTn id="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43200000">
                                      <p:cBhvr>
                                        <p:cTn id="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5573 -0.10474 C -0.45695 -0.08208 -0.46215 -0.05965 -0.4625 -0.03699 C -0.46441 0.11284 -0.45955 0.26035 -0.4375 0.4074 C -0.4316 0.50081 -0.41893 0.59445 -0.40781 0.68694 C -0.4066 0.69781 -0.39097 0.75584 -0.37465 0.76116 C -0.3632 0.75168 -0.34896 0.74636 -0.33993 0.73341 C -0.33386 0.72463 -0.33403 0.71099 -0.3316 0.69966 C -0.32639 0.67445 -0.32118 0.64902 -0.31684 0.62336 C -0.29879 0.51515 -0.29879 0.40347 -0.28212 0.29526 C -0.27813 0.22266 -0.28004 0.14544 -0.26372 0.07515 C -0.26146 0.05318 -0.25 0.03399 -0.24063 0.01573 C -0.2382 0.00417 -0.23976 0.00139 -0.2309 0.02012 C -0.21997 0.04324 -0.21441 0.06983 -0.2059 0.09434 C -0.19896 0.15214 -0.20747 0.08787 -0.19271 0.16833 C -0.18715 0.19746 -0.19097 0.19492 -0.18611 0.22752 C -0.1816 0.25688 -0.17483 0.28671 -0.16632 0.31445 C -0.16424 0.35261 -0.15764 0.38867 -0.15295 0.42659 C -0.14688 0.47746 -0.14427 0.53203 -0.13143 0.58104 C -0.12969 0.58821 -0.10834 0.63261 -0.10156 0.64255 C -0.09896 0.64671 -0.09393 0.64648 -0.09011 0.64879 C -0.08351 0.6481 -0.07691 0.6481 -0.07031 0.64671 C -0.05139 0.64255 -0.03038 0.60694 -0.01736 0.59168 C -0.00781 0.56509 0.00139 0.52787 0.01232 0.50266 C 0.01736 0.44578 0.01285 0.38821 0.01076 0.33133 C 0.00972 0.30174 0.00989 0.27214 0.00746 0.24255 C 0.00642 0.22867 0.00087 0.20208 0.00087 0.20232 C 0.00156 0.15353 0.00416 0.10474 0.00416 0.05596 C 0.00416 0.000239999999999997 0.01545 0.00879 -0.00087 -0.00115 E">
                                      <p:cBhvr>
                                        <p:cTn id="10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6146 0.80948 C -0.42934 0.78937 -0.38542 0.75815 -0.36302 0.72069 C -0.35695 0.71052 -0.35035 0.70058 -0.34566 0.68902 C -0.33941 0.67353 -0.33316 0.64763 -0.32188 0.6363 C -0.31945 0.62451 -0.3132 0.6222 -0.30903 0.61087 C -0.30781 0.6074 -0.30747 0.60347 -0.3059 0.60023 C -0.30261 0.59353 -0.29792 0.58798 -0.29479 0.58127 C -0.29271 0.57665 -0.29184 0.57133 -0.29011 0.56648 C -0.28472 0.55191 -0.28177 0.54821 -0.27413 0.5348 C -0.2691 0.51422 -0.2783 0.5496 -0.26632 0.51792 C -0.26215 0.50682 -0.26181 0.49179 -0.25834 0.47977 C -0.25886 0.46428 -0.25903 0.44879 -0.2599 0.4333 C -0.26233 0.3926 -0.26893 0.3415 -0.23611 0.317 C -0.22031 0.3052 -0.22917 0.30983 -0.20903 0.30428 C -0.15365 0.3089 -0.09965 0.31306 -0.04879 0.34659 C -0.02709 0.36093 0.0158 0.38289 0.03368 0.4185 C 0.03837 0.44208 0.04097 0.46382 0.04323 0.48832 C 0.03767 0.53249 0.03941 0.55515 0.02587 0.58752 C 0.02413 0.59122 0.02083 0.60648 0.01788 0.60879 C 0.01232 0.61318 -0.01111 0.61457 -0.01545 0.61503 C -0.025 0.61364 -0.03472 0.61318 -0.0441 0.61087 C -0.04601 0.61041 -0.04722 0.60763 -0.04879 0.60671 C -0.05139 0.60555 -0.05417 0.60532 -0.05677 0.60463 C -0.07084 0.59723 -0.08611 0.58983 -0.09792 0.57711 C -0.10278 0.57179 -0.11007 0.54798 -0.11233 0.54104 C -0.11528 0.52116 -0.11684 0.50104 -0.12188 0.48185 C -0.12014 0.42867 -0.11736 0.37549 -0.10903 0.32347 C -0.1059 0.30428 -0.10104 0.2948 -0.09636 0.27676 C -0.09393 0.26775 -0.09323 0.25804 -0.09011 0.24948 C -0.07934 0.22081 -0.05868 0.20416 -0.0441 0.17965 C -0.02656 0.15006 -0.01493 0.11769 0.00521 0.09087 C 0.00677 0.08671 0.00851 0.08254 0.00989 0.07815 C 0.01267 0.06913 0.01788 0.05064 0.01788 0.05064 C 0.01701 0.02821 0.02448 -1.56069E-006 0.00364 -1.56069E-006 C 0.10052 0.14659 0.20104 0.28879 0.2941 0.43954 C 0.29705 0.44416 0.26389 0.46937 0.26076 0.47145 C 0.23854 0.48624 0.2 0.47885 0.18455 0.47977 C 0.17083 0.47908 0.15642 0.48278 0.14323 0.47769 C 0.10469 0.46289 0.03055 0.42058 0.03055 0.42058 C 0.01094 0.39445 0.00399 0.38752 -0.00278 0.35515 C -0.00538 0.29387 -0.01823 0.22289 -0.00122 0.16486 C 0.00087 0.1452 0.00573 0.12555 0.00521 0.10567 C 0.00399 0.05919 0.00017 0.04278 0.00017 -1.56069E-006 E">
                                      <p:cBhvr>
                                        <p:cTn id="12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7465 0.70821 C 0.37326 0.45827 0.37187 0.20832 0.36979 0.11006 C 0.36771 0.01179 0.371 0.09087 0.36198 0.11838 C 0.35295 0.1459 0.33298 0.26751 0.3158 0.27491 C 0.29861 0.28231 0.27482 0.18775 0.25868 0.16277 C 0.24253 0.1378 0.21389 0.14566 0.21909 0.12485 C 0.2243 0.10405 0.27621 0.0726 0.29045 0.03815 C 0.30468 0.0037 0.35312 -0.07607 0.30468 -0.08231 C 0.25625 -0.08856 0.12812 -0.04439 3.61111E-006 -1.50289E-006 E">
                                      <p:cBhvr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997 0.78636 C -0.28681 0.77503 -0.27396 0.78289 -0.31111 0.77156 C -0.31632 0.76994 -0.32066 0.76578 -0.32552 0.763 C -0.33611 0.75722 -0.34722 0.75306 -0.35729 0.74612 C -0.43542 0.69271 -0.35018 0.74381 -0.41754 0.69341 C -0.43906 0.67722 -0.4533 0.67468 -0.47153 0.65734 C -0.47448 0.6541 -0.47674 0.65017 -0.47952 0.64693 C -0.48629 0.63884 -0.49271 0.63052 -0.5 0.62358 C -0.50382 0.61988 -0.50868 0.61803 -0.51285 0.61503 C -0.52431 0.60601 -0.55643 0.56948 -0.55729 0.56855 C -0.56372 0.56138 -0.57014 0.55676 -0.57465 0.54751 C -0.54254 0.53896 -0.34844 0.53387 -0.31441 0.53248 C -0.22656 0.51815 -0.13768 0.52601 -0.04931 0.51375 C -0.0467 0.51283 -0.0441 0.51283 -0.04149 0.51144 C -0.03959 0.51052 -0.03837 0.5082 -0.03663 0.50728 C -0.02986 0.50381 -0.02274 0.50196 -0.01597 0.49896 C -0.02952 0.48832 -0.0382 0.48023 -0.05261 0.47352 C -0.06406 0.45318 -0.08108 0.44439 -0.09705 0.43121 C -0.13906 0.39653 -0.09896 0.42612 -0.15903 0.38474 C -0.16285 0.38196 -0.1658 0.37664 -0.17014 0.3741 C -0.22274 0.34266 -0.14757 0.40508 -0.23021 0.34242 C -0.24236 0.33318 -0.25365 0.32162 -0.26667 0.31468 C -0.27205 0.3119 -0.27761 0.31005 -0.28264 0.30659 C -0.31945 0.28115 -0.2934 0.29225 -0.31754 0.28323 C -0.33351 0.27075 -0.35261 0.26728 -0.3684 0.25364 C -0.39271 0.2326 -0.37535 0.2393 -0.39063 0.23468 C -0.39445 0.21849 -0.3882 0.23838 -0.4 0.22612 C -0.40209 0.22404 -0.41285 0.20323 -0.41441 0.19861 C -0.41511 0.19653 -0.41493 0.19375 -0.41597 0.19237 C -0.42118 0.18358 -0.4467 0.17572 -0.45556 0.17341 C -0.46181 0.16901 -0.46806 0.16578 -0.47465 0.16277 C -0.45764 0.15144 -0.40486 0.16901 -0.38733 0.17086 C -0.32274 0.17757 -0.25955 0.18427 -0.19549 0.19237 C -0.13212 0.1889 -0.07222 0.17711 -0.00955 0.16901 C 0.04896 0.16138 0.14896 0.16346 0.19201 0.16277 C 0.19305 0.16046 0.19375 0.15815 0.19496 0.1563 C 0.19705 0.15375 0.20017 0.15283 0.20156 0.15005 C 0.20764 0.13618 0.20781 0.11953 0.21423 0.10566 C 0.22309 0.06358 0.21041 0.11953 0.22378 0.07583 C 0.23212 0.04878 0.23576 0.02289 0.25052 1.27168E-006 C 0.25416 -0.03723 0.25555 -0.06983 0.25382 -0.10775 C 0.25347 -0.11376 0.25382 -0.11954 0.25226 -0.12486 C 0.24739 -0.14197 0.23333 -0.15214 0.22378 -0.16486 C 0.21354 -0.1785 0.20798 -0.18729 0.19496 -0.19445 C 0.17257 -0.23029 0.17517 -0.21341 0.12222 -0.21133 C 0.10868 -0.20925 0.09739 -0.20185 0.08403 -0.19885 C 0.07274 -0.18706 0.05416 -0.1718 0.04114 -0.16278 C 0.02899 -0.14104 0.04323 -0.16324 0.0316 -0.15214 C 0.01892 -0.13989 0.03125 -0.14636 0.02048 -0.14174 C 0.01892 -0.13919 0.01771 -0.13573 0.0158 -0.13318 C 0.01389 -0.13087 0.01111 -0.12971 0.00937 -0.12694 C 0.00833 -0.12509 0.00885 -0.12255 0.00781 -0.12047 C -0.00747 -0.09156 0.01024 -0.13434 -0.0033 -0.10151 C -0.00799 -0.09018 -0.0099 -0.07723 -0.01441 -0.06567 C -0.01563 -0.0511 -0.02136 -0.02058 -0.00799 -0.0148 C -0.00139 -0.00116 -0.00452 -0.00578 -1.38889E-006 1.27168E-006 E">
                                      <p:cBhvr>
                                        <p:cTn id="16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6076 -0.00716 L 0.24809 0.00347 E">
                                      <p:cBhvr>
                                        <p:cTn id="18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9046 0.42058 C 0.57778 0.42359 0.56493 0.42544 0.55243 0.42914 C 0.54375 0.43168 0.53577 0.43792 0.52691 0.43954 C 0.50799 0.44347 0.48889 0.44393 0.4698 0.44601 C 0.44132 0.45388 0.41216 0.45596 0.38403 0.46497 C 0.4 0.43052 0.42171 0.40463 0.43959 0.37226 C 0.45452 0.34521 0.4566 0.31399 0.47136 0.28763 C 0.45764 0.28162 0.42674 0.29596 0.4158 0.30035 C 0.36493 0.31977 0.31945 0.33827 0.26823 0.35075 C 0.31407 0.35931 0.29566 0.35931 0.37292 0.27284 C 0.38559 0.25873 0.39011 0.23538 0.4 0.21781 C 0.40973 0.2007 0.42205 0.18636 0.43178 0.16925 C 0.4533 0.13133 0.47205 0.09087 0.49358 0.05295 C 0.52171 0.00324 0.40053 0.06359 0.354 0.06775 C 0.27848 0.07469 0.20261 0.08139 0.12691 0.08463 C 0.15868 0.09827 0.14514 0.09388 0.21424 0.04671 C 0.23855 0.03006 0.27917 -0.02057 0.30313 -0.04855 C 0.30886 -0.0682 0.3099 -0.07838 0.31112 -0.10127 C 0.31007 -0.11607 0.31025 -0.13109 0.30799 -0.14566 C 0.3066 -0.15468 0.29688 -0.15722 0.29046 -0.16046 C 0.24931 -0.18034 0.24428 -0.18104 0.20313 -0.18589 C 0.18299 -0.19352 0.16719 -0.19399 0.14601 -0.19237 C 0.13056 -0.17988 0.1448 -0.19283 0.12691 -0.16901 C 0.10678 -0.14219 0.09705 -0.12023 0.08403 -0.08647 C 0.08837 -0.07953 0.0915 -0.07098 0.09688 -0.06543 C 0.10695 -0.05503 0.12084 -0.05318 0.13178 -0.04439 C 0.15243 -0.02797 0.13629 -0.03375 0.15243 -0.02959 C 0.14948 0.01434 0.14132 0.01156 0.10625 0.02128 C 0.02865 0.04278 0.04705 0.03838 -0.02066 0.04671 C -0.04184 0.04278 -0.0309 0.04902 -0.02708 0.03399 C -0.02656 0.02844 -0.02777 0.02174 -0.02534 0.01711 C -0.02257 0.0118 -0.01371 0.01272 -0.00954 0.01272 L -1.94444E-006 6.35838E-007 E">
                                      <p:cBhvr>
                                        <p:cTn id="20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2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2 0.07724 0.1 0.20243 0.077 0.31697 C -0.015 0.31031 -0.093 0.2304 -0.125 0.12119 C -0.047 0.05327 0.051 0.05727 0.125 0.12119 C 0.092 0.23706 0.011 0.31031 -0.077 0.31697 C -0.101 0.19711 -0.068 0.07458 0 0 Z">
                                      <p:cBhvr>
                                        <p:cTn id="22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712 -0.42496 C 0.15243 -0.41895 0.36163 -0.41317 0.57153 -0.41641 C 0.66632 -0.42127 0.7592 -0.41988 0.85243 -0.39953 C 0.85347 -0.3334 0.85382 -0.26705 0.85538 -0.20092 C 0.8566 -0.15583 0.86476 -0.11028 0.86962 -0.06566 C 0.87222 -0.01895 0.87726 0.02706 0.87934 0.07399 C 0.88299 0.15862 0.88455 0.23168 0.9 0.31284 C 0.90434 0.36001 0.92136 0.48532 0.90469 0.51145 C 0.88698 0.53943 0.84983 0.51584 0.82222 0.51793 C 0.72674 0.51584 0.63143 0.51839 0.53629 0.50521 C 0.43872 0.51099 0.34063 0.51168 0.24288 0.51584 C 0.17882 0.51446 0.13837 0.51608 0.0809 0.50105 C 0.05781 0.48787 0.05469 0.48463 0.02865 0.47978 C 0.00955 0.47215 -0.00816 0.46058 -0.02691 0.45226 C -0.0368 0.44787 -0.04844 0.44787 -0.05868 0.44394 C -0.06423 0.36047 -0.05712 0.27608 -0.06667 0.19215 C -0.0651 0.12324 -0.0684 0.05342 -0.06024 -0.01479 C -0.05937 -0.02173 -0.05573 -0.02728 -0.05399 -0.03398 C -0.04878 -0.05433 -0.04375 -0.07468 -0.03958 -0.09525 C -0.0151 -0.21502 -0.04635 -0.07352 -0.03021 -0.163 C -0.02639 -0.18381 -0.01857 -0.20323 -0.01423 -0.22404 C -0.0118 -0.25664 -0.00781 -0.26011 0.00156 -0.28994 C 0.00243 -0.29548 0.00087 -0.30427 0.00486 -0.30658 C 0.00868 -0.3089 0.01337 -0.3082 0.01754 -0.30866 C 0.02917 -0.31028 0.0408 -0.31144 0.05226 -0.31283 C 0.09479 -0.32601 0.13768 -0.33294 0.18073 -0.34057 C 0.2092 -0.3452 0.23837 -0.35098 0.26667 -0.35722 C 0.27674 -0.35953 0.28663 -0.36508 0.29688 -0.36577 C 0.31597 -0.36716 0.3349 -0.36855 0.35399 -0.36994 C 0.3908 -0.37942 0.42726 -0.38173 0.46493 -0.38473 C 0.53333 -0.38404 0.60156 -0.3852 0.66979 -0.38265 C 0.69531 -0.38173 0.74601 -0.37433 0.74601 -0.37433 C 0.75052 -0.35676 0.75347 -0.34127 0.76337 -0.32762 C 0.76858 -0.30774 0.77153 -0.28647 0.77622 -0.26635 C 0.77708 -0.25502 0.78056 -0.20416 0.78264 -0.19028 C 0.78403 -0.1808 0.78715 -0.17202 0.78872 -0.163 C 0.79097 -0.1519 0.79219 -0.14034 0.79375 -0.12901 C 0.80208 -0.06705 0.78993 -0.14843 0.80295 -0.06358 C 0.80417 -0.05664 0.80643 -0.04231 0.80643 -0.04231 C 0.80538 0.03793 0.80486 0.11839 0.80295 0.19862 C 0.80295 0.20717 0.8007 0.2155 0.8 0.22405 C 0.79844 0.24024 0.79774 0.25642 0.79688 0.27261 C 0.79636 0.28162 0.79583 0.29087 0.79514 0.30012 C 0.79497 0.30567 0.7974 0.31399 0.79375 0.317 C 0.78733 0.32209 0.77899 0.31816 0.77153 0.31908 C 0.74271 0.32255 0.71441 0.32926 0.68577 0.33365 C 0.64115 0.35238 0.68993 0.33434 0.6125 0.34868 C 0.49462 0.37064 0.64931 0.3503 0.53976 0.36347 C 0.4474 0.38891 0.33802 0.3792 0.24931 0.38012 C 0.23924 0.37966 0.11493 0.39215 0.06024 0.36787 C 0.04983 0.317 0.03785 0.26683 0.02865 0.2155 C 0.02274 0.18313 0.02552 0.14983 0.01268 0.12047 C 0.00747 0.08509 0.01094 0.09873 0.00486 0.07793 C 0.00382 0.06937 0.00208 0.06128 0.00156 0.05272 C 0.00052 0.03515 -1.38889E-006 7.39884E-006 -1.38889E-006 7.39884E-006 E">
                                      <p:cBhvr>
                                        <p:cTn id="24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-324000" y="-963720"/>
            <a:ext cx="16202160" cy="108014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-539640" y="-484200"/>
            <a:ext cx="12241080" cy="81612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-396720" y="-1324080"/>
            <a:ext cx="15660360" cy="104410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79640" y="-27000"/>
            <a:ext cx="5329080" cy="79930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-396720" y="-100080"/>
            <a:ext cx="11017080" cy="73454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050920" y="-316080"/>
            <a:ext cx="5329440" cy="79930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90680" y="-674640"/>
            <a:ext cx="8113680" cy="121698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-612720" y="-531720"/>
            <a:ext cx="11233080" cy="748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24000" y="-458640"/>
            <a:ext cx="5087880" cy="76327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1333440" y="-244440"/>
            <a:ext cx="11882520" cy="79214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-387360"/>
            <a:ext cx="5185080" cy="77770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59040" y="-458640"/>
            <a:ext cx="5376960" cy="80643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1520" y="-747720"/>
            <a:ext cx="9007560" cy="135097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90560" y="-674640"/>
            <a:ext cx="5618160" cy="84265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8000" y="-603360"/>
            <a:ext cx="8980560" cy="13468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556000" y="2781360"/>
            <a:ext cx="338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600" spc="-1" strike="noStrike">
                <a:solidFill>
                  <a:srgbClr val="ff33cc"/>
                </a:solidFill>
                <a:latin typeface="Comic Sans MS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95640" y="-27000"/>
            <a:ext cx="5214960" cy="78217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2200" y="-674640"/>
            <a:ext cx="8497800" cy="127443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835280" y="-458640"/>
            <a:ext cx="5903640" cy="88563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203040" y="-1827360"/>
            <a:ext cx="9599400" cy="144018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-828720" y="-171360"/>
            <a:ext cx="11377800" cy="75848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-612720" y="-939960"/>
            <a:ext cx="16273440" cy="108489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612720" y="-291960"/>
            <a:ext cx="11953800" cy="79689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03:50:13Z</dcterms:created>
  <dc:creator>Jose Urbano</dc:creator>
  <dc:description>Chubaka Producciones Inc.</dc:description>
  <cp:keywords>Chubaka Producciones Inc.</cp:keywords>
  <dc:language>en-US</dc:language>
  <cp:lastModifiedBy>Jose Urbano</cp:lastModifiedBy>
  <dcterms:modified xsi:type="dcterms:W3CDTF">2008-06-18T19:31:34Z</dcterms:modified>
  <cp:revision>2</cp:revision>
  <dc:subject>Chubaka.pps@gmail.com</dc:subject>
  <dc:title>Diapositiva 1</dc:title>
</cp:coreProperties>
</file>