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13.%20TRANSPARENCE_001.wav" ContentType="audio/x-wav"/>
  <Override PartName="/ppt/media/image1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18A-9499-4121-AE2E-108123D2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250-6358-423B-B7F6-FA82203D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A70D4-C94E-4F9D-9992-E14372F0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6D812-2A08-45F5-AC5B-0859B130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8BFC3-C639-4988-A3BA-B8CD4FBB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90CCB-45FD-4C4B-B7DE-0CB85F5B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C4720-D5F8-4B82-B99E-4D90A19D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E30D5-C60E-4DEE-89B4-9127AF84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973AC-4906-4453-92AC-2991919A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C1454-55A5-456C-A0D3-80D62336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85285-DF9C-48F9-808E-05E766A7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37845-C377-4C54-98C8-F657B198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233-FEE6-4629-9DCD-F148B9D5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E6C3C-18B6-4DEA-8CEC-05CB252C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15F33-F39C-4DF0-A45B-AAD450D9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3F319-9277-41B8-BBE8-BCB89C2D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2F78C-F814-4960-8327-1D38E99E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8DCA5-A1D3-4D75-990A-D4AD3669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9E9C0-E171-4C61-BE5C-533228E7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24B1A-47C7-4801-8CD6-55716DCF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62B0A-DBEC-426C-949D-6E18F609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B05FF-A1FF-4FD3-A923-E696F67E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473FB-C8BA-4242-9D0B-03E4595D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72B-F7A1-4687-9EDF-F4785CF6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2714A-7022-4209-A4EA-E2AF2DA7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21C6C-E8B9-4188-B9CA-CDC9EF4D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12D7A-79E5-4D9C-8362-47166BC7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2EC47-D4A1-48F9-B633-160130B6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FFFFC-FA94-4F53-ADFF-B08F130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4A6FB-152A-4584-AC9E-639F5E63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B6825-B1B5-4D4B-B764-2CFE32D6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ED776-2792-4551-831A-0F2004E7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9EB49-F926-4C70-8BA4-22CDBBB5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BE936-6A34-4652-9F53-0C19746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7D65-D4BD-4D70-A888-1D62C100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C2A22-9D68-46BF-ACBA-AA4832E4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B9B6F-DE03-4761-87F5-321C42A8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8CC15-CD3A-4924-A413-60EBAA63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BBE2A-CB21-4189-9BC5-FA1EDA3F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CCEF6-D991-406E-8586-070DC65D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AC562-42E5-4B79-BBE5-ABB59E12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67302-3D16-4FAB-AFB7-A20E206B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59E31-9DD9-4FF4-B931-C3EE334F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5B430-CBAB-403B-AA04-24D16C5F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1189C-A4CF-47FB-B123-183D7A5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6CCF-67D9-426A-856F-2B613F29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CA44C-73E9-4D43-9E38-31937ED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E595C-AD51-4192-B941-73A3BEA3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15266-ADB2-46DE-ADD1-1A1AB69D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D3C54-2667-4A12-A5E9-919E067C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6BBF8-691C-470E-A49B-4D0DE923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7F54-EC81-48F4-808B-C4C5FA2A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E524-844E-4976-983A-11CA6B4A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CC15-5162-4F7D-8FC2-18DB8006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A577-4D8C-42CD-BCEA-BE7277EF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5130-0415-428E-AF4D-A6A39C6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1D9-18C8-4F14-9AB5-96AB946B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B83A-F4A4-4035-A5CB-F4BC0D5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9CB3-37FF-4815-A659-6CB34F54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445B-EAF4-4613-A619-F5E9121C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6AFF-B067-48F7-A4C9-652F54DC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D10E-B048-4716-8136-AC5C5438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7DDF-7303-425F-93DD-CF5C7B1D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2323-023B-4B4A-82AC-A8417267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6BAB3-C209-4A81-9B36-1DB9A425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E910-5DBB-4706-B5DB-476747CC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1FE88-D60D-447C-BCC2-E8DF6BFB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174-A5F6-4044-B285-62F2500C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1E10-E2A1-4307-A104-820C87FB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13B4-4738-43FC-8920-6A23A9CF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0DFF-586C-4CC7-B128-BDED193E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845D-A2C7-44EE-8CA8-6BCD570E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F4F9-A764-42EB-A3E8-4AD66098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3D59E-80A0-42EA-8DC7-84EFD756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873C-999B-49CA-B4F9-A76AF873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410C-22B7-4D4C-96EC-296E3722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D62D-D1DD-41CA-8C2B-EC02C506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3AF64-C50D-4941-8D6B-B6CF9F10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A9F-C395-47F9-BFE5-1EE29D22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20827-4329-459A-BF46-6AB1B9A2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97E2-CF6A-493D-A99B-91EF8AD0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DC99-DA48-4450-856C-0940436D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1C7FD-861F-4637-929A-807057FF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BC25E-C9C7-4E4B-B51B-C91A34A8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FAA4-AD90-4B7E-8F99-A81CADE2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5D5E-F3CE-4F85-903C-C824C855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DE3A9-DDDF-46F0-B35F-E6C561B5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33E1-2804-4FBB-A5DE-82734C8A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EA48C-579D-42CC-BABC-2A673AF4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680-38A6-4A82-B4B9-620FAA6D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EAF9-F23C-433F-BB20-6F6F10A4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FCE05-0B11-41C0-B4A6-409FD08C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436E9-2276-4B74-A90E-1BD9055B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FC9D6-2730-4A3A-A315-9C8E0337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FF63E-6E1C-47A2-99BD-E0E8D97F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E2A19-296A-47CF-91B9-B2B8A06F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41778-FBE1-4046-815F-3B1B0D52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4BBE1-5DE2-4B22-8FC4-24A2A1CE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13FF7-5128-438A-947F-B78DC70A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B4ACB-4A30-4F3F-9605-76EE6CBD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06A-D01E-48B2-A6C0-BA0FAA08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0C6F4-DDED-4AD3-AE3D-4BF86347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1E20D-CFF4-46E4-85B0-50E1A30A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01B2D-7C38-4872-82C5-0EEBDCD9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2EB75-DF40-4A22-ADD2-9B37C41E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57370-AA41-459D-AFE1-59E82F1B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25E8A-6FB5-4261-92AB-AB5CFCB4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D2A2C-88E9-41F4-A05B-D41A9C56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65E7B-2A96-4A8E-AAEA-D1C4E00A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4FA2F-3DA1-44C0-8096-1D08024E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96CC4-99DE-464D-9FB2-16959D4D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7C4-B55C-40F6-8C18-F3BC38C4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943E6-3D6C-443C-899D-353BA44B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1AC3A-23C5-468C-99F2-80EF8139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3A457-9C73-4547-AEA4-663F688A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730DE-EA3B-4EF4-9466-56C7EDBE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BB77D-9550-49C8-B721-0070A0B5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B1CEB-75DE-481D-9146-778EA905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BB125-31C8-4635-9106-0F9E021C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E11F1-6BF8-45BF-92FB-0A3EF155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1DED9-EA7D-4B1E-959B-B74832CB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2B458-4109-40A4-8CD8-229124A6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676-8E10-4047-9355-384E2721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0EE85-D101-4156-803A-70B539F1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5AC91-5CE1-4F80-AAB8-693C7022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69F80-C981-4DA7-81DF-2F19F1B2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EBFC1-7216-4D61-A367-B43E31A8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54C3D-C583-4D87-9BAE-AE85DB86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E6724-0041-428C-821B-406EB568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6AFEA-90CE-4DF6-A95B-D66EBCBE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592BB-8E3D-40DC-BF4F-6685C35C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DD7A9-149E-4E4C-9C57-C3A755C9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F287F-290F-4C58-94DF-9F89B1A3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27F-F40F-479B-BA28-9A1B7CB2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BB6C4-F7F7-4863-B62B-8AF1A6A2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DE2BF-9CE8-44D5-9C26-34CA47B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A097D-6261-4AD4-B835-7E2F39DC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4FE55-B14F-4088-98F8-072A3AB2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90EDD-E4BE-490D-9E61-085D792F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126E0-182B-4751-B0F7-272246BE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DDFF8-8FAB-482B-8EA8-5D0A5684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BC183-C59E-4459-82B2-888D6394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6062D-42FA-4DEC-9BC8-C93178C9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80C16-520C-45EB-8DDF-561AE661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39E5-2EB9-40C4-AFC7-5969323F2C3F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EA5E-6A52-450C-B0A6-CF15050AD01D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3687-7C1D-4CA5-9712-DE5B285E0A05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32A8-3D1A-47E4-9E12-3EB028985566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1551-5BCB-47D6-930C-25279F65FCDD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5994-F3CB-4E74-A45F-30AD91993030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958E-8D15-4095-AFC6-3C88CBEAE9F7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E471-24E2-47B8-B9B7-50322477C7B0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A174-601C-4C97-A510-CC5E5DE3CEC8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FB98-0903-412A-9359-977727819135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E00D-C3A2-42F7-A9F8-F19EFCCDCA0F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A4CD-52F2-415C-98E6-11C646C819B8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3.%20TRANSPARENCE_001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900" spc="-1" strike="noStrike">
                <a:solidFill>
                  <a:srgbClr val="ff0000"/>
                </a:solidFill>
                <a:latin typeface="Arial"/>
                <a:ea typeface="Arial"/>
              </a:rPr>
              <a:t>DE NOS JOURS LA TRANSPARENCE</a:t>
            </a:r>
            <a:br>
              <a:rPr sz="5900"/>
            </a:br>
            <a:r>
              <a:rPr b="1" lang="fr-FR" sz="5900" spc="-1" strike="noStrike">
                <a:solidFill>
                  <a:srgbClr val="ff0000"/>
                </a:solidFill>
                <a:latin typeface="Arial"/>
                <a:ea typeface="Arial"/>
              </a:rPr>
              <a:t>EST PRIMORDIALE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32000" y="6092640"/>
            <a:ext cx="6400800" cy="4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Maiandra GD"/>
              </a:rPr>
              <a:t>AUTOMATIQUE ET MUSIC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1 - Εικόνα" descr="13. TRANSPARENCE_020.jpg"/>
          <p:cNvPicPr/>
          <p:nvPr/>
        </p:nvPicPr>
        <p:blipFill>
          <a:blip r:embed="rId1"/>
          <a:stretch/>
        </p:blipFill>
        <p:spPr>
          <a:xfrm>
            <a:off x="368280" y="0"/>
            <a:ext cx="840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1 - Εικόνα" descr="13. TRANSPARENCE_021.jpg"/>
          <p:cNvPicPr/>
          <p:nvPr/>
        </p:nvPicPr>
        <p:blipFill>
          <a:blip r:embed="rId1"/>
          <a:stretch/>
        </p:blipFill>
        <p:spPr>
          <a:xfrm>
            <a:off x="1913040" y="0"/>
            <a:ext cx="531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1 - Εικόνα" descr="13. TRANSPARENCE_023.jpg"/>
          <p:cNvPicPr/>
          <p:nvPr/>
        </p:nvPicPr>
        <p:blipFill>
          <a:blip r:embed="rId1"/>
          <a:stretch/>
        </p:blipFill>
        <p:spPr>
          <a:xfrm>
            <a:off x="795240" y="0"/>
            <a:ext cx="7553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1 - Εικόνα" descr="13. TRANSPARENCE_029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- Εικόνα" descr="13. TRANSPARENCE_031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1 - Εικόνα" descr="13. TRANSPARENCE_032.jpg"/>
          <p:cNvPicPr/>
          <p:nvPr/>
        </p:nvPicPr>
        <p:blipFill>
          <a:blip r:embed="rId1"/>
          <a:stretch/>
        </p:blipFill>
        <p:spPr>
          <a:xfrm>
            <a:off x="2303640" y="0"/>
            <a:ext cx="4535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1 - Εικόνα" descr="13. TRANSPARENCE_034.jpg"/>
          <p:cNvPicPr/>
          <p:nvPr/>
        </p:nvPicPr>
        <p:blipFill>
          <a:blip r:embed="rId1"/>
          <a:stretch/>
        </p:blipFill>
        <p:spPr>
          <a:xfrm>
            <a:off x="127800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1 - Εικόνα" descr="13. TRANSPARENCE_035.jpg"/>
          <p:cNvPicPr/>
          <p:nvPr/>
        </p:nvPicPr>
        <p:blipFill>
          <a:blip r:embed="rId1"/>
          <a:stretch/>
        </p:blipFill>
        <p:spPr>
          <a:xfrm>
            <a:off x="2376360" y="0"/>
            <a:ext cx="4391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1 - Εικόνα" descr="13. TRANSPARENCE_037.jpg"/>
          <p:cNvPicPr/>
          <p:nvPr/>
        </p:nvPicPr>
        <p:blipFill>
          <a:blip r:embed="rId1"/>
          <a:stretch/>
        </p:blipFill>
        <p:spPr>
          <a:xfrm>
            <a:off x="2563920" y="0"/>
            <a:ext cx="401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1 - Εικόνα" descr="13. TRANSPARENCE_039.jpg"/>
          <p:cNvPicPr/>
          <p:nvPr/>
        </p:nvPicPr>
        <p:blipFill>
          <a:blip r:embed="rId1"/>
          <a:stretch/>
        </p:blipFill>
        <p:spPr>
          <a:xfrm>
            <a:off x="-228600" y="0"/>
            <a:ext cx="9604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1 - Εικόνα" descr="13. TRANSPARENCE_001.jpg"/>
          <p:cNvPicPr/>
          <p:nvPr/>
        </p:nvPicPr>
        <p:blipFill>
          <a:blip r:embed="rId1"/>
          <a:stretch/>
        </p:blipFill>
        <p:spPr>
          <a:xfrm>
            <a:off x="5757840" y="0"/>
            <a:ext cx="3386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1 - Εικόνα" descr="13. TRANSPARENCE_038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1 - Εικόνα" descr="13. TRANSPARENCE_03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1 - Εικόνα" descr="13. TRANSPARENCE_002.jpg"/>
          <p:cNvPicPr/>
          <p:nvPr/>
        </p:nvPicPr>
        <p:blipFill>
          <a:blip r:embed="rId1"/>
          <a:stretch/>
        </p:blipFill>
        <p:spPr>
          <a:xfrm>
            <a:off x="612720" y="0"/>
            <a:ext cx="7918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1 - Εικόνα" descr="13. TRANSPARENCE_024.jpg"/>
          <p:cNvPicPr/>
          <p:nvPr/>
        </p:nvPicPr>
        <p:blipFill>
          <a:blip r:embed="rId1"/>
          <a:stretch/>
        </p:blipFill>
        <p:spPr>
          <a:xfrm>
            <a:off x="242892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1 - Εικόνα" descr="13. TRANSPARENCE_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1 - Εικόνα" descr="13. TRANSPARENCE_018.jpg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1 - Εικόνα" descr="13. TRANSPARENCE_022.jpg"/>
          <p:cNvPicPr/>
          <p:nvPr/>
        </p:nvPicPr>
        <p:blipFill>
          <a:blip r:embed="rId1"/>
          <a:stretch/>
        </p:blipFill>
        <p:spPr>
          <a:xfrm>
            <a:off x="1959120" y="0"/>
            <a:ext cx="5224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1 - Εικόνα" descr="13. TRANSPARENCE_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1 - Εικόνα" descr="13. TRANSPARENCE_015.jpg"/>
          <p:cNvPicPr/>
          <p:nvPr/>
        </p:nvPicPr>
        <p:blipFill>
          <a:blip r:embed="rId1"/>
          <a:stretch/>
        </p:blipFill>
        <p:spPr>
          <a:xfrm>
            <a:off x="219240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1 - Εικόνα" descr="13. TRANSPARENCE_026.jpg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1 - Εικόνα" descr="13. TRANSPARENCE_003.jpg"/>
          <p:cNvPicPr/>
          <p:nvPr/>
        </p:nvPicPr>
        <p:blipFill>
          <a:blip r:embed="rId1"/>
          <a:stretch/>
        </p:blipFill>
        <p:spPr>
          <a:xfrm>
            <a:off x="257328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1 - Εικόνα" descr="13. TRANSPARENCE_030.jpg"/>
          <p:cNvPicPr/>
          <p:nvPr/>
        </p:nvPicPr>
        <p:blipFill>
          <a:blip r:embed="rId1"/>
          <a:stretch/>
        </p:blipFill>
        <p:spPr>
          <a:xfrm>
            <a:off x="2004840" y="0"/>
            <a:ext cx="5132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1 - Εικόνα" descr="13. TRANSPARENCE_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1 - Εικόνα" descr="13. TRANSPARENCE_027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1 - Εικόνα" descr="13. TRANSPARENCE_028.jpg"/>
          <p:cNvPicPr/>
          <p:nvPr/>
        </p:nvPicPr>
        <p:blipFill>
          <a:blip r:embed="rId1"/>
          <a:stretch/>
        </p:blipFill>
        <p:spPr>
          <a:xfrm>
            <a:off x="2138400" y="0"/>
            <a:ext cx="486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1 - Εικόνα" descr="13. TRANSPARENCE_008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1 - Εικόνα" descr="13. TRANSPARENCE_012.jpg"/>
          <p:cNvPicPr/>
          <p:nvPr/>
        </p:nvPicPr>
        <p:blipFill>
          <a:blip r:embed="rId1"/>
          <a:stretch/>
        </p:blipFill>
        <p:spPr>
          <a:xfrm>
            <a:off x="2195640" y="0"/>
            <a:ext cx="4751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1 - Εικόνα" descr="13. TRANSPARENCE_040.jpg"/>
          <p:cNvPicPr/>
          <p:nvPr/>
        </p:nvPicPr>
        <p:blipFill>
          <a:blip r:embed="rId1"/>
          <a:stretch/>
        </p:blipFill>
        <p:spPr>
          <a:xfrm>
            <a:off x="1547640" y="1052640"/>
            <a:ext cx="618336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1 - Εικόνα" descr="13. TRANSPARENCE_004.jpg"/>
          <p:cNvPicPr/>
          <p:nvPr/>
        </p:nvPicPr>
        <p:blipFill>
          <a:blip r:embed="rId1"/>
          <a:stretch/>
        </p:blipFill>
        <p:spPr>
          <a:xfrm>
            <a:off x="199692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1 - Εικόνα" descr="13. TRANSPARENCE_009.jpg"/>
          <p:cNvPicPr/>
          <p:nvPr/>
        </p:nvPicPr>
        <p:blipFill>
          <a:blip r:embed="rId1"/>
          <a:stretch/>
        </p:blipFill>
        <p:spPr>
          <a:xfrm>
            <a:off x="2101680" y="0"/>
            <a:ext cx="494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1 - Εικόνα" descr="13. TRANSPARENCE_011.jpg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1 - Εικόνα" descr="13. TRANSPARENCE_016.jpg"/>
          <p:cNvPicPr/>
          <p:nvPr/>
        </p:nvPicPr>
        <p:blipFill>
          <a:blip r:embed="rId1"/>
          <a:stretch/>
        </p:blipFill>
        <p:spPr>
          <a:xfrm>
            <a:off x="2894040" y="0"/>
            <a:ext cx="335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1 - Εικόνα" descr="13. TRANSPARENCE_017.jpg"/>
          <p:cNvPicPr/>
          <p:nvPr/>
        </p:nvPicPr>
        <p:blipFill>
          <a:blip r:embed="rId1"/>
          <a:stretch/>
        </p:blipFill>
        <p:spPr>
          <a:xfrm>
            <a:off x="1155600" y="0"/>
            <a:ext cx="683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1 - Εικόνα" descr="13. TRANSPARENCE_019.jpg"/>
          <p:cNvPicPr/>
          <p:nvPr/>
        </p:nvPicPr>
        <p:blipFill>
          <a:blip r:embed="rId1"/>
          <a:stretch/>
        </p:blipFill>
        <p:spPr>
          <a:xfrm>
            <a:off x="1760400" y="0"/>
            <a:ext cx="5623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1T05:57:15Z</dcterms:created>
  <dc:creator>Jean Pierre</dc:creator>
  <dc:description/>
  <dc:language>en-US</dc:language>
  <cp:lastModifiedBy>Roger</cp:lastModifiedBy>
  <dcterms:modified xsi:type="dcterms:W3CDTF">2016-11-15T19:41:54Z</dcterms:modified>
  <cp:revision>8</cp:revision>
  <dc:subject/>
  <dc:title>TRANSPARENCE</dc:title>
</cp:coreProperties>
</file>