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5BD-1B95-4368-A573-761769D9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1F2-8FFE-45C9-9010-DCA717B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BA4-D388-4536-A38E-A472618E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B37-7D79-4C34-AB1F-BBDE65BA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DD6-B34F-43F9-95B1-D0E34F6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581-D766-4930-8426-315C94A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E81-E714-4CA4-83CC-E0F8937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42B-D7A7-4669-A896-F96906B6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E15-77DC-42D9-B6F8-5F78D551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9D5-49C5-4448-9214-ACAB864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423-98B5-4535-A904-613807E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2A2-AF48-493E-9D84-082503D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682-D3F6-4399-AC67-82392AE9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348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21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8:23:38Z</dcterms:created>
  <dc:creator>Usuario</dc:creator>
  <dc:description/>
  <dc:language>en-US</dc:language>
  <cp:lastModifiedBy>Usuario</cp:lastModifiedBy>
  <dcterms:modified xsi:type="dcterms:W3CDTF">2010-07-07T18:30:02Z</dcterms:modified>
  <cp:revision>3</cp:revision>
  <dc:subject/>
  <dc:title>Diapositiva 1</dc:title>
</cp:coreProperties>
</file>