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A%20GARAGEM%20DA%20VIZINHA-Quim%20Barreiros-01.33-728-KB-24-64-abr-s-7-.wav" ContentType="audio/x-wav"/>
  <Override PartName="/ppt/media/image23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1606-4410-4359-849C-78BCB614DEB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3AAE-C711-4824-9198-B32D639A65E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8BCC-5EFC-4A84-8D82-BB56400B7D3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FF74-167B-4140-B944-3017B1F3FA7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0043-8DF3-48D6-AF2A-47DC7277F8F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F1D-90C4-465F-A92F-4419202B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9AE-0AA7-4F8C-B607-14471956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10CA9-BBE5-4896-91F3-E54D66EF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FBBD5-9F20-4E8E-8BCA-901576FE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D89CF-C8D1-4DAA-919C-0CFB1237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8B046-833F-4B56-B841-8717E8D8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EC15A-AF51-42C9-BBF7-00FC3D8E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9A2AC-0437-4660-80D6-4FD2E9F4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F1F33-2E29-4E14-9970-57BC6F74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F1CAB-4BE9-4B52-82C1-3355AA15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10FCA-C86B-425E-BBDC-1FB34EC1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D48DA-315E-4720-A511-2DFF5706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8464-17F1-43DF-A1A8-D0170D08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9C5A4-B521-4E78-882E-7080E8EB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B3737-24CE-4374-AE3B-8A060C3B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05DDB-8A19-4485-A72C-65283190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01743-C933-474D-ADE1-7D889545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15927-1E8C-427B-A547-1E77E44C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DD068-B001-4A90-B3BB-20A6A008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B350E-A773-4A9B-A200-EFF33EAE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DBF7C-A918-4C08-AF35-1D4862E6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7559A-6C22-4CC8-A06C-C1F2EB76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66492-32DC-41A7-BF87-ABF439D6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874-23DA-4865-AE50-22ECCB75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D52C8-4747-43EC-B1DE-E234FB01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3F62B-FE3A-4EFA-96F7-DCCD52E4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9E02A-0F4B-4324-9BE6-B77F30E9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53C16-FC74-43FF-AF49-5281BA65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B42D4-3CAA-4A9D-8E47-4DCB6CDF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52FA3-C800-4867-9991-B3B1BDE8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D7DA9-F7A3-40B3-B3AD-BA912E07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4A962-AA54-4ADA-BC5F-98EDA9DE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CE5D2-C41C-47FE-8F95-8BC1D3E8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6E5E0-D71D-4A9D-ABBB-0901251A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2C69-BC96-4487-8588-955D5FC6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B554C-2DC2-49B1-A359-A1ADE28C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4E0B0-CD29-4838-9F37-A86E1DCA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55EA6-BECF-4423-BDAD-57E192CE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37E6B-EFF8-4FB0-B506-5D4556D0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0B50E-D117-4D52-B740-1862EF51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6F302-4EED-4ECE-B841-6CF58C71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F6251-F18B-4BD0-A937-888908CC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79796-CD66-426D-A34C-D4F9DD72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A155C-4A82-47A1-998A-B71F386E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12EA5-B092-43E8-B32C-F1454459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8036-578D-4A0D-8237-95FC6583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B435D-9F45-49C5-85F7-BB4957F7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64DE7-49D7-49AD-B527-D61D384F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868CF-05D3-4A1E-B4C1-2661E90F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DD380-DFBF-4BCB-B87E-76BD7B08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37679-8DDB-434D-A285-654C8D4C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0159-72E9-4615-86B8-D40CFCB7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9A29-456F-435E-B2BE-4820F44F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9673-DE29-4199-B48B-A3D00CAE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3365-DBBD-4F06-B5A9-6A167B46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0973-1383-41DA-BF48-A5D5C93A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520-186D-47DB-B5CF-75298B1D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74DA-0729-45EE-B269-E9792B2F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CA24-A2BF-4C1A-83DA-C78382E5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4091-D2E9-4D99-B250-FA7AAC34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1E65-D1BB-4D08-A22B-D468608D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4E84-104E-4695-B9FB-1148E06E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C478D-1EA2-42F3-BB2A-E9E2414F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C05E-A1F8-4766-B417-B69ED08C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C3971-92B8-4560-86C6-18B641ED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8C11E-CD6C-4A4D-8CEF-1FFADFDE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7A243-6DF2-45E4-808A-88CC6429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97C-5BD9-4755-A560-D9727B92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CA361-8E8B-4BEE-98D1-7025279A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D56A7-DA3D-4794-BF15-0B09A053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7D963-CBE1-40F5-AA61-7A0FC46C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7285C-ADAB-4E40-9BB4-B29BDBBF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8370-BA3A-4A39-BCBB-39A81612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EA888-84BE-4E14-AF73-BD98D872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264D8-CC66-40B4-A631-3787B7A3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3DABA-BAF5-4BA4-BBFD-A913F087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FC36C-D9E2-4FE7-822F-47FC68FF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D0B73-9D18-495F-BC2E-3DD16D4C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FC48-2461-4796-AD5D-1C67A597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614A7-76A3-43B3-B3AD-81933E9D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0FD7E-C0A1-402C-9E81-83B9DE87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BA7D6-5CA3-42C9-8F1B-632A256F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25580-CA04-4CB3-A9B1-7479AB5A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D91CE-7B34-4C51-A475-50A90866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E8481-1750-4AC7-810B-9B0F90E3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B83F7-FD80-4728-BA12-944E8673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DDCFE-90AC-4B88-9FB9-B4870EF0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FC7B7-6058-4390-9ED2-7F3F96BA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949E8-46BE-484B-9362-2B0116CD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6AC-1486-40AE-AA7B-57679224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A4138-4F98-4563-BE14-FCCAD791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849C4-7B26-43A1-A5AA-726A8290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42DAC-6CE1-4B29-B935-F01D8E3C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76203-8DFD-42D8-B81E-DAA92B5E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0836D-E195-4706-8328-69AC86AB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3D6B2-64BD-464E-ABF7-05998D4C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96915-BA44-42B0-9E7D-D201030E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A4F8F-31E4-4932-92E5-DE2D7E56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CD17F-D885-4F98-8D60-45968C6B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E92C6-0A18-4EC9-BE24-7476F0FB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8D1-425D-46FC-A24E-037C2502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B2868-D8C9-4A9C-AC55-1A905EAA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F38A9-C60F-4546-BF49-BA7D6085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8FC0E-A3E4-4471-88C1-65EFA6A0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3FB2D-95FB-4058-A6FB-B8C322C3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FA652-C720-4D67-B21E-F9EAD04D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4671C-0FBF-4E88-95D4-D5A9E196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FBE24-CCB5-48A7-BF61-6936F276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3F630-FF44-4E01-890C-1C6B0793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0DD3B-08F3-42C4-A462-CF705D23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D5B68-552B-42B8-99A5-DBB77722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099-6739-4D51-ABCE-1DC69E15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2F273-54BC-4B56-A6FA-EE57992C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7AA46-CD12-4AE6-860B-5571AC5C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D4B07-77DF-4101-88FF-979C3861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5C15A-8A42-4835-8098-1536DF6B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265E2-2B33-40E0-8F0A-5AE24210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D4C8D-B9B3-4484-8489-1F58972F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65F40-A241-4AA2-BF06-44869873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0A8BB-5627-4318-94AC-09D3DA29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E685E-4A6F-4AA4-8AC9-85D29F7B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4C3D2-51DE-48EC-9F36-CE9A1584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CB9-D8C4-48A6-8A89-0E146C7B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31980-EEF5-4E26-ADB0-47DF780D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EF4D7-450F-4FB6-A150-A311629D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48B9B-90E9-4ADF-AB70-BE075F36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C1DA1-D349-483A-A17A-23EF746D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4FC91-C7FE-4F32-AB4A-13D992C3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7F423-B671-4EF2-86EE-1F7E9502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B27AD-FC86-4B8C-A916-63040858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AA3D0-185E-467B-9977-09FD35EE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6A89C-6455-4967-B281-532AAA9C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72A60-A962-496A-A02E-6C4F3BDC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F88-0C40-4413-B339-0C475BDE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A6644-41FD-4924-B38D-0FF2BA48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6CBE6-61AC-43B8-8CE1-59B67DA3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1B3E5-D695-4D65-9416-BB478C8E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D7D80-D5C0-497C-B66C-6E88568C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B9404-A166-44B0-B9A6-42D8757C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6DA34-F9F5-4288-ADB0-9AD656A8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5577E-ED1F-437D-A53F-050FDC4A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143B7-AF1D-424D-BE5D-B6307455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B7BAF-9C7D-4C40-8856-6BF1DB55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0F01B-CF38-467A-B5C1-A28FC13D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13A4-9E47-435A-8E26-0ECA7B6A97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D575-1F59-483B-AD43-4330421C0E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7FCF-1BE0-4BEE-AEA0-272316D1A01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3BC9-2692-458A-891D-5C048F1C7A6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0074-F86A-4C3A-A6CE-A602B1105A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1331-8301-4692-B5A6-D775F95533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45DE-001A-4E7A-9E56-BD287AE7AA2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BB0D-2FE5-4A20-8451-D7BCAE17D02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03DE-95D4-490B-9FCB-9E76093A99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D5E3-19EC-407D-8F2E-A5A90D2442E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66DB-F734-4DAE-BF6B-F842426697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749C-14E2-4D6F-8B66-A2C12BC5C9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%20GARAGEM%20DA%20VIZINHA-Quim%20Barreiros-01.33-728-KB-24-64-abr-s-7-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cc00"/>
                </a:solidFill>
                <a:latin typeface="Arial"/>
              </a:rPr>
              <a:t>LUA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26560" y="2923920"/>
            <a:ext cx="77058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d60093"/>
                </a:solidFill>
                <a:latin typeface="Arial Black"/>
              </a:rPr>
              <a:t>GOSTOSESSI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2"/>
          <p:cNvSpPr/>
          <p:nvPr/>
        </p:nvSpPr>
        <p:spPr>
          <a:xfrm>
            <a:off x="1749240" y="5157720"/>
            <a:ext cx="53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Rolagem automática com 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     “</a:t>
            </a: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A Garagem da Vizinha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com Quim Barrei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  <p:sndAc>
      <p:stSnd>
        <p:snd r:embed="rId1" name="A%20GARAGEM%20DA%20VIZINHA-Quim%20Barreiros-01.33-728-KB-24-64-abr-s-7-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0" y="388800"/>
            <a:ext cx="9144000" cy="608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0" y="192240"/>
            <a:ext cx="9144000" cy="6473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0" y="388800"/>
            <a:ext cx="9144000" cy="608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0" y="388800"/>
            <a:ext cx="9144000" cy="608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0" y="388800"/>
            <a:ext cx="9144000" cy="608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0" y="388800"/>
            <a:ext cx="9144000" cy="608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0" y="189000"/>
            <a:ext cx="9144000" cy="668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CaixaDeTexto 1"/>
          <p:cNvSpPr/>
          <p:nvPr/>
        </p:nvSpPr>
        <p:spPr>
          <a:xfrm>
            <a:off x="479520" y="5607000"/>
            <a:ext cx="207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F   I   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2171880" y="0"/>
            <a:ext cx="4800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0" y="447840"/>
            <a:ext cx="9144000" cy="596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0" y="563400"/>
            <a:ext cx="9144000" cy="573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3:12:55Z</dcterms:created>
  <dc:creator>Milton Klier</dc:creator>
  <dc:description/>
  <dc:language>en-US</dc:language>
  <cp:lastModifiedBy>Odair</cp:lastModifiedBy>
  <dcterms:modified xsi:type="dcterms:W3CDTF">2012-10-10T08:13:25Z</dcterms:modified>
  <cp:revision>3</cp:revision>
  <dc:subject/>
  <dc:title>LUANA</dc:title>
</cp:coreProperties>
</file>