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260-E7EB-4E7D-90DA-885C0C98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6AA-879D-4367-BA07-0BA12A58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5DD-3C2F-46A8-A0AF-9D0B7779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DDF-18B2-4668-AB2E-737D35F5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BF2-B4A0-493F-8FD5-ABACDCF3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340-0C99-482C-B0D9-DFC0C62E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8F1-FC0E-41B6-B4A4-5750B723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632-69EF-4D9D-8C2E-025015E5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F7C-32A9-44F1-BA26-2E5D0171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441-278D-4BE2-AAC2-C1862FD2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77E-C26F-480C-ACA4-C4DA1943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B9D-29D2-4617-94C5-E6CE1D5E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704080" y="6381360"/>
            <a:ext cx="43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D9B5-3714-4EE5-B27B-8C790E419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remove@Mendera.de?subject=Remove%20me%20from%20your%20great%20list" TargetMode="External"/><Relationship Id="rId2" Type="http://schemas.openxmlformats.org/officeDocument/2006/relationships/image" Target="../media/image17.jpeg"/><Relationship Id="rId3" Type="http://schemas.openxmlformats.org/officeDocument/2006/relationships/hyperlink" Target="mailto:Add@Mendera.de?subject=Add%20me%20to%20your%20great%20list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cm-entertainment.com/" TargetMode="External"/><Relationship Id="rId6" Type="http://schemas.openxmlformats.org/officeDocument/2006/relationships/hyperlink" Target="http://www.cm-entertainment.com/" TargetMode="External"/><Relationship Id="rId7" Type="http://schemas.openxmlformats.org/officeDocument/2006/relationships/hyperlink" Target="http://www.cm-entertainment.com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ffffff"/>
                </a:solidFill>
                <a:latin typeface="Comic Sans MS"/>
              </a:rPr>
              <a:t>Strong hammer ag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Comic Sans MS"/>
              </a:rPr>
              <a:t>Size does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500280"/>
            <a:ext cx="820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2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4831"/>
          <a:stretch/>
        </p:blipFill>
        <p:spPr>
          <a:xfrm>
            <a:off x="1908000" y="0"/>
            <a:ext cx="5399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780000" y="2349360"/>
            <a:ext cx="50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343400" y="2060640"/>
            <a:ext cx="804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</a:t>
            </a:r>
            <a:endParaRPr b="1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00360" y="3573360"/>
            <a:ext cx="38163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Unicode MS"/>
              </a:rPr>
              <a:t>E N T E R T A I N M E N T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484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BankGothic Md BT"/>
              </a:rPr>
              <a:t>Present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916280"/>
            <a:ext cx="4103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56000" y="3429000"/>
            <a:ext cx="424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1773360"/>
            <a:ext cx="0" cy="649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659640" y="2997360"/>
            <a:ext cx="0" cy="57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4581360"/>
            <a:ext cx="1487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Ch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-69840"/>
            <a:ext cx="932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0"/>
            <a:ext cx="1463760" cy="307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0"/>
            <a:ext cx="1463760" cy="307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6524640"/>
            <a:ext cx="424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ffffff"/>
                </a:solidFill>
                <a:latin typeface="Bauhaus 93"/>
              </a:rPr>
              <a:t>by</a:t>
            </a:r>
            <a:r>
              <a:rPr b="0" lang="de-DE" sz="1800" spc="-1" strike="noStrike">
                <a:solidFill>
                  <a:srgbClr val="ffffff"/>
                </a:solidFill>
                <a:latin typeface="Bauhaus 93"/>
              </a:rPr>
              <a:t> 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Bauhaus 93"/>
                <a:hlinkClick r:id="rId5"/>
              </a:rPr>
              <a:t>www.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CM-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Bauhaus 93"/>
                <a:hlinkClick r:id="rId7"/>
              </a:rPr>
              <a:t>entertainmen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22:49:25Z</dcterms:created>
  <dc:creator>Christian Mendera</dc:creator>
  <dc:description/>
  <dc:language>en-US</dc:language>
  <cp:lastModifiedBy> </cp:lastModifiedBy>
  <dcterms:modified xsi:type="dcterms:W3CDTF">2004-08-29T10:14:52Z</dcterms:modified>
  <cp:revision>6</cp:revision>
  <dc:subject/>
  <dc:title>The Titel</dc:title>
</cp:coreProperties>
</file>