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sorriso_wav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995-88C9-4E53-B680-D4525DEF6F3E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C6D6-B5B4-458A-B16F-DED8DC689419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1F0-DBF3-4F69-8930-27BF90F6A5C2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0EA-C3A7-4446-AC8A-97BFAB7DDA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final,se não sorrirmo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16D-18D3-438B-AE98-E29A8B35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7B8-E226-4470-A46E-AF99FAF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5FB-2DBC-4178-98CB-B8ED05F4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EC4-C571-42ED-A430-F7921DE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B27-3BEA-4DF1-9BEB-F6D6ACB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935-CD8D-47DC-A936-E2D63ABA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720-3652-42E0-8361-57229940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206-D2F3-4D11-A3EE-8FF4530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3FA-6F63-472C-AFFE-7625B5F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714-1AC3-408F-BFDC-B643C38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963-35F7-4477-A59F-977EADF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81C-3E18-4194-96C8-25FDDA7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5DA-CF11-45BB-8365-BBC4D24F7D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"/>
          <p:cNvPicPr/>
          <p:nvPr/>
        </p:nvPicPr>
        <p:blipFill>
          <a:blip r:embed="rId1"/>
          <a:stretch/>
        </p:blipFill>
        <p:spPr>
          <a:xfrm>
            <a:off x="2556000" y="404640"/>
            <a:ext cx="36558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816200" y="4384800"/>
            <a:ext cx="614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063160" y="609588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Cliquea en mi braguita para verme más 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"/>
          <p:cNvPicPr/>
          <p:nvPr/>
        </p:nvPicPr>
        <p:blipFill>
          <a:blip r:embed="rId1"/>
          <a:stretch/>
        </p:blipFill>
        <p:spPr>
          <a:xfrm>
            <a:off x="-785880" y="-142920"/>
            <a:ext cx="107157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G00406_"/>
          <p:cNvPicPr/>
          <p:nvPr/>
        </p:nvPicPr>
        <p:blipFill>
          <a:blip r:embed="rId1"/>
          <a:stretch/>
        </p:blipFill>
        <p:spPr>
          <a:xfrm>
            <a:off x="3048120" y="2057400"/>
            <a:ext cx="3276360" cy="25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9:45:25Z</dcterms:created>
  <dc:creator>Nijkoops</dc:creator>
  <dc:description/>
  <dc:language>en-US</dc:language>
  <cp:lastModifiedBy>JORGE SALAZAR</cp:lastModifiedBy>
  <dcterms:modified xsi:type="dcterms:W3CDTF">2008-02-05T20:26:56Z</dcterms:modified>
  <cp:revision>5</cp:revision>
  <dc:subject/>
  <dc:title>Dia 1</dc:title>
</cp:coreProperties>
</file>