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ACC-A12E-4E12-A36A-629D883D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9D8-43F5-4BD9-AED1-4BC7331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04C-0921-4741-A8D7-6D951072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FCB-9F4F-4B02-AE62-FE9554A9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B86-5DBC-4E26-885A-512CB35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E6E-8D4B-4D88-A5B0-9A9CDB4F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02B-76BE-4C6F-948F-085F669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CAD-20D0-4594-9677-9994442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3D3-98EB-40E4-998C-97DD8AE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6EE-FFA0-43D9-855D-05FFAEB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7F4-B9F5-48E3-A33C-CD6FE245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A15-DD7D-4C03-9BAD-6EA8FB9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D608-91A3-488B-A51D-8914CBBE5E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20:22Z</dcterms:created>
  <dc:creator>sf</dc:creator>
  <dc:description/>
  <dc:language>en-US</dc:language>
  <cp:lastModifiedBy>Equiipo</cp:lastModifiedBy>
  <dcterms:modified xsi:type="dcterms:W3CDTF">2008-08-09T20:23:44Z</dcterms:modified>
  <cp:revision>3</cp:revision>
  <dc:subject/>
  <dc:title>Présentation PowerPoint</dc:title>
</cp:coreProperties>
</file>