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F50-3650-46A5-980E-9CD8B139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7DA-D70A-4E78-B441-6B23FB88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382-8027-4704-9333-78532FC4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24B-4589-4D2C-A41C-768665C2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EDA-3BA2-4C9C-AF6B-41C317D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0BD-74B4-4FA2-9061-CBD8A2D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074-A035-4101-8D16-FE51599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6C6-05C2-404C-B9D1-24CDADE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C92-83EB-446C-A65F-88A99047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B73-DAD5-4B5A-BF06-A5319F4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9B6-A7D1-4ED4-A48F-0FF96C5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77A-A757-4713-B7C8-9C118E6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3A2-FF2B-436D-81E7-C62CE807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-60480" y="-60480"/>
            <a:ext cx="9944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-60480" y="-60480"/>
            <a:ext cx="99442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-800280" y="0"/>
            <a:ext cx="99442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4" descr=""/>
          <p:cNvPicPr/>
          <p:nvPr/>
        </p:nvPicPr>
        <p:blipFill>
          <a:blip r:embed="rId1"/>
          <a:stretch/>
        </p:blipFill>
        <p:spPr>
          <a:xfrm>
            <a:off x="-122400" y="-60480"/>
            <a:ext cx="994428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6" descr=""/>
          <p:cNvPicPr/>
          <p:nvPr/>
        </p:nvPicPr>
        <p:blipFill>
          <a:blip r:embed="rId1"/>
          <a:stretch/>
        </p:blipFill>
        <p:spPr>
          <a:xfrm>
            <a:off x="-1219320" y="-378000"/>
            <a:ext cx="11277720" cy="744228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2"/>
          <a:stretch/>
        </p:blipFill>
        <p:spPr>
          <a:xfrm>
            <a:off x="-1523880" y="0"/>
            <a:ext cx="11963160" cy="77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9" descr=""/>
          <p:cNvPicPr/>
          <p:nvPr/>
        </p:nvPicPr>
        <p:blipFill>
          <a:blip r:embed="rId1"/>
          <a:stretch/>
        </p:blipFill>
        <p:spPr>
          <a:xfrm>
            <a:off x="0" y="-60480"/>
            <a:ext cx="994428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0" y="-60480"/>
            <a:ext cx="99442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-60480" y="-60480"/>
            <a:ext cx="994428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" descr=""/>
          <p:cNvPicPr/>
          <p:nvPr/>
        </p:nvPicPr>
        <p:blipFill>
          <a:blip r:embed="rId1"/>
          <a:stretch/>
        </p:blipFill>
        <p:spPr>
          <a:xfrm>
            <a:off x="-60480" y="-60480"/>
            <a:ext cx="99442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-60480" y="-60480"/>
            <a:ext cx="9944280" cy="681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94428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5:57:27Z</dcterms:created>
  <dc:creator>Gustavo</dc:creator>
  <dc:description/>
  <dc:language>en-US</dc:language>
  <cp:lastModifiedBy>Gustavo</cp:lastModifiedBy>
  <dcterms:modified xsi:type="dcterms:W3CDTF">2003-02-14T16:08:50Z</dcterms:modified>
  <cp:revision>2</cp:revision>
  <dc:subject/>
  <dc:title>Presentación de PowerPoint</dc:title>
</cp:coreProperties>
</file>