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7DE-1109-4923-BB1C-34FABF38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028-C53E-48FC-B9F4-1CA1A4BD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7B6-94FE-40ED-87F7-B761C181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E9B-EC30-420B-A851-214CCCA2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0DE-D7DA-43B5-A466-73F561D8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97E-2CAA-42EA-9A92-18FA50CB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C47-F797-4556-A998-12848C21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69A-4AD2-4085-BC0B-434A401B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559-FAA2-47EE-A4E5-5F462B7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A52-68FD-4EAB-B068-074CEB6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E0C-4512-4B24-BC45-A017175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D56-2DB2-4138-8640-4C5649E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6FE-1119-4852-9CE2-14A7AED6E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2722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17640" y="-243000"/>
            <a:ext cx="550872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17640" y="-243000"/>
            <a:ext cx="53262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60008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5:57:55Z</dcterms:created>
  <dc:creator>Maria Augusta</dc:creator>
  <dc:description/>
  <dc:language>en-US</dc:language>
  <cp:lastModifiedBy>Maria Augusta</cp:lastModifiedBy>
  <dcterms:modified xsi:type="dcterms:W3CDTF">2005-05-05T15:58:20Z</dcterms:modified>
  <cp:revision>1</cp:revision>
  <dc:subject/>
  <dc:title>Slide 1</dc:title>
</cp:coreProperties>
</file>