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747-332C-4B10-9DFA-6EC06BB3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0C5-E84E-4918-AABA-0C4CD497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3DF-E4CA-4EC5-A856-E2B713F0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B61-CBED-4B4D-831C-0EC61F38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E28-D767-46D9-8F22-C4DC0BA5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C1D-4E6E-4CD4-BF72-AEBC45D4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8E6-8932-43D9-9B8C-C7F22D8C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E4E-6368-4063-B698-C0775F0C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754-D4F0-4B1A-AF20-73334FAE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66F-F6BF-4E2C-95B5-B55615E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988-FA6F-4281-97C9-852D35DF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45D-5604-4874-B88A-40194A29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C362-2873-4269-9FC7-9D351CDF2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73080" y="-27000"/>
            <a:ext cx="11017080" cy="73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763640" y="-27000"/>
            <a:ext cx="13249080" cy="883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692360" y="-27000"/>
            <a:ext cx="12385800" cy="82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189080" y="-243000"/>
            <a:ext cx="10945800" cy="73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405080" y="41400"/>
            <a:ext cx="11665080" cy="77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-4060800"/>
            <a:ext cx="7732440" cy="115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268360" y="-100080"/>
            <a:ext cx="12241080" cy="81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116000" y="-27000"/>
            <a:ext cx="11809440" cy="78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19040" y="-563400"/>
            <a:ext cx="65059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-2908440"/>
            <a:ext cx="6627960" cy="993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19040" y="-1447920"/>
            <a:ext cx="650592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836720" y="-100080"/>
            <a:ext cx="12528360" cy="835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62000" y="-3770280"/>
            <a:ext cx="9414000" cy="141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19040" y="-1447920"/>
            <a:ext cx="650592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620720" y="-871560"/>
            <a:ext cx="11737800" cy="78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-1447920"/>
            <a:ext cx="650592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501480" y="-100080"/>
            <a:ext cx="1076148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684360" y="-27000"/>
            <a:ext cx="11304720" cy="75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685800" y="-100080"/>
            <a:ext cx="11306160" cy="75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19040" y="-1447920"/>
            <a:ext cx="650592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206280" y="-4307040"/>
            <a:ext cx="9386640" cy="14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116000" y="-387360"/>
            <a:ext cx="11376000" cy="758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189080" y="-27000"/>
            <a:ext cx="11377800" cy="758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9:09:59Z</dcterms:created>
  <dc:creator>pecin</dc:creator>
  <dc:description/>
  <dc:language>en-US</dc:language>
  <cp:lastModifiedBy>pecin</cp:lastModifiedBy>
  <dcterms:modified xsi:type="dcterms:W3CDTF">2009-08-05T19:26:18Z</dcterms:modified>
  <cp:revision>3</cp:revision>
  <dc:subject/>
  <dc:title>Slide 1</dc:title>
</cp:coreProperties>
</file>