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35.jpeg" ContentType="image/jpeg"/>
  <Override PartName="/ppt/media/image10.jpeg" ContentType="image/jpeg"/>
  <Override PartName="/ppt/media/image9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11.jpeg" ContentType="image/jpeg"/>
  <Override PartName="/ppt/media/image1.gif" ContentType="image/gif"/>
  <Override PartName="/ppt/media/musikita%20ok.wav" ContentType="audio/x-wav"/>
  <Override PartName="/ppt/media/image13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1A7E-6765-4321-AEF8-F014A316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0078-8F19-4993-8D11-6ABF1747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2B2A-A4CA-4FD2-9C00-60766BAD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4D38-633B-4241-8826-A1646264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970C-7EEA-42DF-A009-037D7AF7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63ED-D64A-47D9-B9DF-BA40FE67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E7F8-65F0-4CCB-8175-F5BDD538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C2D8-EDAE-4490-B044-A3754040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FB8E-C510-493F-84E6-44E56F80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926-9DFD-409A-84E8-3E679916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C3EA-F6DE-4B67-B62B-DDB45969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A902-9FBC-4466-9F84-9C237D67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3678-CA23-47D7-BEEB-2099BD1F637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laboutiquedelpowerpointx.com/" TargetMode="External"/><Relationship Id="rId5" Type="http://schemas.openxmlformats.org/officeDocument/2006/relationships/image" Target="../media/image4.png"/><Relationship Id="rId6" Type="http://schemas.openxmlformats.org/officeDocument/2006/relationships/audio" Target="../media/musikita%20ok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laboutiquedelpowerpointx.com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laboutiquedelpowerpointx.com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laboutiquedelpowerpointx.com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laboutiquedelpowerpointx.com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laboutiquedelpowerpointx.com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hyperlink" Target="http://www.laboutiquedelpowerpointx.com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laboutiquedelpowerpointx.com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laboutiquedelpowerpointx.com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laboutiquedelpowerpointx.com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laboutiquedelpowerpointx.com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laboutiquedelpowerpointx.com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www.laboutiquedelpowerpointx.com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www.laboutiquedelpowerpointx.com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hyperlink" Target="http://www.laboutiquedelpowerpointx.com/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www.laboutiquedelpowerpointx.com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laboutiquedelpowerpointx.com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laboutiquedelpowerpointx.com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laboutiquedelpowerpointx.com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1" descr="t-S8hZFcCE2E29iuHUlPucTourY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2" name="2 Rectángulo" descr=""/>
          <p:cNvPicPr/>
          <p:nvPr/>
        </p:nvPicPr>
        <p:blipFill>
          <a:blip r:embed="rId2"/>
          <a:stretch/>
        </p:blipFill>
        <p:spPr>
          <a:xfrm>
            <a:off x="5261040" y="407880"/>
            <a:ext cx="3267000" cy="1298520"/>
          </a:xfrm>
          <a:prstGeom prst="rect">
            <a:avLst/>
          </a:prstGeom>
          <a:ln w="0">
            <a:noFill/>
          </a:ln>
        </p:spPr>
      </p:pic>
      <p:pic>
        <p:nvPicPr>
          <p:cNvPr id="43" name="3 Rectángulo" descr=""/>
          <p:cNvPicPr/>
          <p:nvPr/>
        </p:nvPicPr>
        <p:blipFill>
          <a:blip r:embed="rId3"/>
          <a:stretch/>
        </p:blipFill>
        <p:spPr>
          <a:xfrm>
            <a:off x="743040" y="2809800"/>
            <a:ext cx="7669080" cy="2006640"/>
          </a:xfrm>
          <a:prstGeom prst="rect">
            <a:avLst/>
          </a:prstGeom>
          <a:ln w="0">
            <a:noFill/>
          </a:ln>
        </p:spPr>
      </p:pic>
      <p:pic>
        <p:nvPicPr>
          <p:cNvPr id="44" name="30 Rectángulo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newsflash/>
    <p:sndAc>
      <p:stSnd>
        <p:snd r:embed="rId6" name="musikita%20o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2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2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67.media.tumblr.com/31558884c835b9d275ef4ab9e62218bf/tumblr_mmjxds5Ssm1rzt7f6o1_500.jpg"/>
          <p:cNvPicPr/>
          <p:nvPr/>
        </p:nvPicPr>
        <p:blipFill>
          <a:blip r:embed="rId1"/>
          <a:stretch/>
        </p:blipFill>
        <p:spPr>
          <a:xfrm>
            <a:off x="1714680" y="0"/>
            <a:ext cx="53496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30 Rectángul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25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http://66.media.tumblr.com/0b90ad9840929cddfa071f9d543c46db/tumblr_mkvjeyFTwu1rzt7f6o1_500.jpg"/>
          <p:cNvPicPr/>
          <p:nvPr/>
        </p:nvPicPr>
        <p:blipFill>
          <a:blip r:embed="rId1"/>
          <a:stretch/>
        </p:blipFill>
        <p:spPr>
          <a:xfrm>
            <a:off x="1928880" y="28440"/>
            <a:ext cx="5286240" cy="6829560"/>
          </a:xfrm>
          <a:prstGeom prst="rect">
            <a:avLst/>
          </a:prstGeom>
          <a:ln w="0">
            <a:noFill/>
          </a:ln>
        </p:spPr>
      </p:pic>
      <p:pic>
        <p:nvPicPr>
          <p:cNvPr id="70" name="30 Rectángul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2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http://66.media.tumblr.com/efaefb323f6c999713431d2393da3bd3/tumblr_ml0rigC6yU1rzt7f6o1_500.jpg"/>
          <p:cNvPicPr/>
          <p:nvPr/>
        </p:nvPicPr>
        <p:blipFill>
          <a:blip r:embed="rId1"/>
          <a:stretch/>
        </p:blipFill>
        <p:spPr>
          <a:xfrm>
            <a:off x="2143080" y="0"/>
            <a:ext cx="478008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30 Rectángul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25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2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2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67.media.tumblr.com/e282fe99798dc8b2a6327fe74085ec37/tumblr_mlyh4otxkH1rzt7f6o1_500.jpg"/>
          <p:cNvPicPr/>
          <p:nvPr/>
        </p:nvPicPr>
        <p:blipFill>
          <a:blip r:embed="rId1"/>
          <a:stretch/>
        </p:blipFill>
        <p:spPr>
          <a:xfrm>
            <a:off x="1214280" y="0"/>
            <a:ext cx="66456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30 Rectángul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66.media.tumblr.com/ae3da8a17488fa6211e8a210e6a08214/tumblr_mlyh06CEii1rzt7f6o1_500.jpg"/>
          <p:cNvPicPr/>
          <p:nvPr/>
        </p:nvPicPr>
        <p:blipFill>
          <a:blip r:embed="rId1"/>
          <a:stretch/>
        </p:blipFill>
        <p:spPr>
          <a:xfrm>
            <a:off x="2143080" y="-536400"/>
            <a:ext cx="4929120" cy="7394400"/>
          </a:xfrm>
          <a:prstGeom prst="rect">
            <a:avLst/>
          </a:prstGeom>
          <a:ln w="0">
            <a:noFill/>
          </a:ln>
        </p:spPr>
      </p:pic>
      <p:pic>
        <p:nvPicPr>
          <p:cNvPr id="76" name="30 Rectángul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vas: "/>
          <p:cNvPicPr/>
          <p:nvPr/>
        </p:nvPicPr>
        <p:blipFill>
          <a:blip r:embed="rId1"/>
          <a:stretch/>
        </p:blipFill>
        <p:spPr>
          <a:xfrm>
            <a:off x="857160" y="0"/>
            <a:ext cx="35514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vas: "/>
          <p:cNvPicPr/>
          <p:nvPr/>
        </p:nvPicPr>
        <p:blipFill>
          <a:blip r:embed="rId2"/>
          <a:stretch/>
        </p:blipFill>
        <p:spPr>
          <a:xfrm>
            <a:off x="4357800" y="0"/>
            <a:ext cx="38574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30 Rectángul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2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2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67.media.tumblr.com/tumblr_lu1vb2p2V21r21xm5o1_500.jpg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999120"/>
          </a:xfrm>
          <a:prstGeom prst="rect">
            <a:avLst/>
          </a:prstGeom>
          <a:ln w="0">
            <a:noFill/>
          </a:ln>
        </p:spPr>
      </p:pic>
      <p:pic>
        <p:nvPicPr>
          <p:cNvPr id="81" name="30 Rectángul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66.media.tumblr.com/e6c936f75c7593614fc847785551b11c/tumblr_mjwqy9R7FG1ridh5zo1_500.jpg"/>
          <p:cNvPicPr/>
          <p:nvPr/>
        </p:nvPicPr>
        <p:blipFill>
          <a:blip r:embed="rId1"/>
          <a:stretch/>
        </p:blipFill>
        <p:spPr>
          <a:xfrm>
            <a:off x="1741320" y="0"/>
            <a:ext cx="502128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30 Rectángul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67.media.tumblr.com/1f082bd685418f0cd0128ef26c34e114/tumblr_ml7ojntSyf1rzt7f6o1_500.jpg"/>
          <p:cNvPicPr/>
          <p:nvPr/>
        </p:nvPicPr>
        <p:blipFill>
          <a:blip r:embed="rId1"/>
          <a:stretch/>
        </p:blipFill>
        <p:spPr>
          <a:xfrm>
            <a:off x="2214720" y="0"/>
            <a:ext cx="4714560" cy="6910560"/>
          </a:xfrm>
          <a:prstGeom prst="rect">
            <a:avLst/>
          </a:prstGeom>
          <a:ln w="0">
            <a:noFill/>
          </a:ln>
        </p:spPr>
      </p:pic>
      <p:pic>
        <p:nvPicPr>
          <p:cNvPr id="85" name="30 Rectángul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66.media.tumblr.com/c92ae9d4a7dacf88cad38b1ec752280f/tumblr_ml55lfPmbo1rzt7f6o1_500.jpg"/>
          <p:cNvPicPr/>
          <p:nvPr/>
        </p:nvPicPr>
        <p:blipFill>
          <a:blip r:embed="rId1"/>
          <a:stretch/>
        </p:blipFill>
        <p:spPr>
          <a:xfrm>
            <a:off x="1928880" y="0"/>
            <a:ext cx="4643280" cy="6900840"/>
          </a:xfrm>
          <a:prstGeom prst="rect">
            <a:avLst/>
          </a:prstGeom>
          <a:ln w="0">
            <a:noFill/>
          </a:ln>
        </p:spPr>
      </p:pic>
      <p:pic>
        <p:nvPicPr>
          <p:cNvPr id="87" name="30 Rectángul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2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2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Tag a friend that would like this leg sleeve by sinandskin: "/>
          <p:cNvPicPr/>
          <p:nvPr/>
        </p:nvPicPr>
        <p:blipFill>
          <a:blip r:embed="rId1"/>
          <a:stretch/>
        </p:blipFill>
        <p:spPr>
          <a:xfrm>
            <a:off x="1071720" y="-285840"/>
            <a:ext cx="7143480" cy="7143840"/>
          </a:xfrm>
          <a:prstGeom prst="rect">
            <a:avLst/>
          </a:prstGeom>
          <a:ln w="0">
            <a:noFill/>
          </a:ln>
        </p:spPr>
      </p:pic>
      <p:pic>
        <p:nvPicPr>
          <p:cNvPr id="46" name="30 Rectángul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2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66.media.tumblr.com/4e0db41946fc5b59be4f3c44014fb22f/tumblr_ml4mkiqp5W1rzt7f6o1_400.jpg"/>
          <p:cNvPicPr/>
          <p:nvPr/>
        </p:nvPicPr>
        <p:blipFill>
          <a:blip r:embed="rId1"/>
          <a:stretch/>
        </p:blipFill>
        <p:spPr>
          <a:xfrm>
            <a:off x="0" y="-65160"/>
            <a:ext cx="4818240" cy="692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66.media.tumblr.com/4e0db41946fc5b59be4f3c44014fb22f/tumblr_ml4mkiqp5W1rzt7f6o1_400.jpg"/>
          <p:cNvPicPr/>
          <p:nvPr/>
        </p:nvPicPr>
        <p:blipFill>
          <a:blip r:embed="rId2"/>
          <a:stretch/>
        </p:blipFill>
        <p:spPr>
          <a:xfrm>
            <a:off x="4818240" y="-65160"/>
            <a:ext cx="4325760" cy="6923160"/>
          </a:xfrm>
          <a:prstGeom prst="rect">
            <a:avLst/>
          </a:prstGeom>
          <a:ln w="0">
            <a:noFill/>
          </a:ln>
        </p:spPr>
      </p:pic>
      <p:pic>
        <p:nvPicPr>
          <p:cNvPr id="90" name="30 Rectángulo" descr=""/>
          <p:cNvPicPr/>
          <p:nvPr/>
        </p:nvPicPr>
        <p:blipFill>
          <a:blip r:embed="rId3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2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65.media.tumblr.com/924c70098d4f555ec1bf55fa20c6f09b/tumblr_mktjfwRgA91rzt7f6o1_500.jpg"/>
          <p:cNvPicPr/>
          <p:nvPr/>
        </p:nvPicPr>
        <p:blipFill>
          <a:blip r:embed="rId1"/>
          <a:stretch/>
        </p:blipFill>
        <p:spPr>
          <a:xfrm>
            <a:off x="242892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30 Rectángulo" descr=""/>
          <p:cNvPicPr/>
          <p:nvPr/>
        </p:nvPicPr>
        <p:blipFill>
          <a:blip r:embed="rId2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2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2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2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67.media.tumblr.com/a9ec374ad9996a433a2f2fafda07fb97/tumblr_mkptmpKaRj1rzt7f6o1_500.jpg"/>
          <p:cNvPicPr/>
          <p:nvPr/>
        </p:nvPicPr>
        <p:blipFill>
          <a:blip r:embed="rId1"/>
          <a:stretch/>
        </p:blipFill>
        <p:spPr>
          <a:xfrm>
            <a:off x="1285920" y="0"/>
            <a:ext cx="6643800" cy="6896160"/>
          </a:xfrm>
          <a:prstGeom prst="rect">
            <a:avLst/>
          </a:prstGeom>
          <a:ln w="0">
            <a:noFill/>
          </a:ln>
        </p:spPr>
      </p:pic>
      <p:pic>
        <p:nvPicPr>
          <p:cNvPr id="94" name="30 Rectángulo" descr=""/>
          <p:cNvPicPr/>
          <p:nvPr/>
        </p:nvPicPr>
        <p:blipFill>
          <a:blip r:embed="rId2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2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2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2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http://67.media.tumblr.com/3e5e4af4928e84d44e7eefd504682bc0/tumblr_mj1pc0lCTI1rzt7f6o1_500.jpg"/>
          <p:cNvPicPr/>
          <p:nvPr/>
        </p:nvPicPr>
        <p:blipFill>
          <a:blip r:embed="rId1"/>
          <a:stretch/>
        </p:blipFill>
        <p:spPr>
          <a:xfrm>
            <a:off x="0" y="-285840"/>
            <a:ext cx="5000760" cy="7143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67.media.tumblr.com/3e5e4af4928e84d44e7eefd504682bc0/tumblr_mj1pc0lCTI1rzt7f6o1_500.jpg"/>
          <p:cNvPicPr/>
          <p:nvPr/>
        </p:nvPicPr>
        <p:blipFill>
          <a:blip r:embed="rId2"/>
          <a:stretch/>
        </p:blipFill>
        <p:spPr>
          <a:xfrm>
            <a:off x="4714920" y="-285840"/>
            <a:ext cx="4429080" cy="7143840"/>
          </a:xfrm>
          <a:prstGeom prst="rect">
            <a:avLst/>
          </a:prstGeom>
          <a:ln w="0">
            <a:noFill/>
          </a:ln>
        </p:spPr>
      </p:pic>
      <p:pic>
        <p:nvPicPr>
          <p:cNvPr id="97" name="30 Rectángulo" descr=""/>
          <p:cNvPicPr/>
          <p:nvPr/>
        </p:nvPicPr>
        <p:blipFill>
          <a:blip r:embed="rId3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66.media.tumblr.com/75d5f7c34eccd6443193248ac605d4fa/tumblr_mksvfvFlxy1rzt7f6o1_500.jpg"/>
          <p:cNvPicPr/>
          <p:nvPr/>
        </p:nvPicPr>
        <p:blipFill>
          <a:blip r:embed="rId1"/>
          <a:stretch/>
        </p:blipFill>
        <p:spPr>
          <a:xfrm>
            <a:off x="2071800" y="0"/>
            <a:ext cx="4643280" cy="6966000"/>
          </a:xfrm>
          <a:prstGeom prst="rect">
            <a:avLst/>
          </a:prstGeom>
          <a:ln w="0">
            <a:noFill/>
          </a:ln>
        </p:spPr>
      </p:pic>
      <p:pic>
        <p:nvPicPr>
          <p:cNvPr id="99" name="30 Rectángulo" descr=""/>
          <p:cNvPicPr/>
          <p:nvPr/>
        </p:nvPicPr>
        <p:blipFill>
          <a:blip r:embed="rId2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2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2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2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67.media.tumblr.com/2d950cc91e79afccba89ff64ecc3f5d3/tumblr_mi9l9eZJbD1rzt7f6o1_400.jpg"/>
          <p:cNvPicPr/>
          <p:nvPr/>
        </p:nvPicPr>
        <p:blipFill>
          <a:blip r:embed="rId1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http://67.media.tumblr.com/2d950cc91e79afccba89ff64ecc3f5d3/tumblr_mi9l9eZJbD1rzt7f6o1_400.jpg"/>
          <p:cNvPicPr/>
          <p:nvPr/>
        </p:nvPicPr>
        <p:blipFill>
          <a:blip r:embed="rId2"/>
          <a:stretch/>
        </p:blipFill>
        <p:spPr>
          <a:xfrm>
            <a:off x="4543560" y="0"/>
            <a:ext cx="460044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30 Rectángulo" descr=""/>
          <p:cNvPicPr/>
          <p:nvPr/>
        </p:nvPicPr>
        <p:blipFill>
          <a:blip r:embed="rId3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25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25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67.media.tumblr.com/8409ba00a43f34482bc03a316b99e537/tumblr_ml3d3p2H8d1rzt7f6o1_500.jpg"/>
          <p:cNvPicPr/>
          <p:nvPr/>
        </p:nvPicPr>
        <p:blipFill>
          <a:blip r:embed="rId1"/>
          <a:stretch/>
        </p:blipFill>
        <p:spPr>
          <a:xfrm>
            <a:off x="1143000" y="0"/>
            <a:ext cx="6777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2 Rectángulo" descr=""/>
          <p:cNvPicPr/>
          <p:nvPr/>
        </p:nvPicPr>
        <p:blipFill>
          <a:blip r:embed="rId2"/>
          <a:stretch/>
        </p:blipFill>
        <p:spPr>
          <a:xfrm>
            <a:off x="2408400" y="5065560"/>
            <a:ext cx="3674880" cy="1159200"/>
          </a:xfrm>
          <a:prstGeom prst="rect">
            <a:avLst/>
          </a:prstGeom>
          <a:ln w="0">
            <a:noFill/>
          </a:ln>
        </p:spPr>
      </p:pic>
      <p:pic>
        <p:nvPicPr>
          <p:cNvPr id="105" name="30 Rectángulo" descr=""/>
          <p:cNvPicPr/>
          <p:nvPr/>
        </p:nvPicPr>
        <p:blipFill>
          <a:blip r:embed="rId3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newsflash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2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2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Tatuajes para los amantes de los animales: "/>
          <p:cNvPicPr/>
          <p:nvPr/>
        </p:nvPicPr>
        <p:blipFill>
          <a:blip r:embed="rId1"/>
          <a:stretch/>
        </p:blipFill>
        <p:spPr>
          <a:xfrm>
            <a:off x="428760" y="-17640"/>
            <a:ext cx="4143240" cy="687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Tatuajes para los amantes de los animales: "/>
          <p:cNvPicPr/>
          <p:nvPr/>
        </p:nvPicPr>
        <p:blipFill>
          <a:blip r:embed="rId2"/>
          <a:stretch/>
        </p:blipFill>
        <p:spPr>
          <a:xfrm>
            <a:off x="4500720" y="0"/>
            <a:ext cx="4214520" cy="6875640"/>
          </a:xfrm>
          <a:prstGeom prst="rect">
            <a:avLst/>
          </a:prstGeom>
          <a:ln w="0">
            <a:noFill/>
          </a:ln>
        </p:spPr>
      </p:pic>
      <p:pic>
        <p:nvPicPr>
          <p:cNvPr id="49" name="30 Rectángul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25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25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sorayama-hajime_snake_tattoo by damiandezign, via Flickr: "/>
          <p:cNvPicPr/>
          <p:nvPr/>
        </p:nvPicPr>
        <p:blipFill>
          <a:blip r:embed="rId1"/>
          <a:stretch/>
        </p:blipFill>
        <p:spPr>
          <a:xfrm>
            <a:off x="0" y="0"/>
            <a:ext cx="47862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sorayama-hajime_snake_tattoo by damiandezign, via Flickr: 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30 Rectángul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ris Ortega: "/>
          <p:cNvPicPr/>
          <p:nvPr/>
        </p:nvPicPr>
        <p:blipFill>
          <a:blip r:embed="rId1"/>
          <a:stretch/>
        </p:blipFill>
        <p:spPr>
          <a:xfrm>
            <a:off x="2786040" y="0"/>
            <a:ext cx="3357720" cy="7130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ris Ortega: "/>
          <p:cNvPicPr/>
          <p:nvPr/>
        </p:nvPicPr>
        <p:blipFill>
          <a:blip r:embed="rId2"/>
          <a:stretch/>
        </p:blipFill>
        <p:spPr>
          <a:xfrm>
            <a:off x="6143760" y="0"/>
            <a:ext cx="3000240" cy="7130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ris Ortega: "/>
          <p:cNvPicPr/>
          <p:nvPr/>
        </p:nvPicPr>
        <p:blipFill>
          <a:blip r:embed="rId3"/>
          <a:stretch/>
        </p:blipFill>
        <p:spPr>
          <a:xfrm>
            <a:off x="0" y="0"/>
            <a:ext cx="3214800" cy="7130880"/>
          </a:xfrm>
          <a:prstGeom prst="rect">
            <a:avLst/>
          </a:prstGeom>
          <a:ln w="0">
            <a:noFill/>
          </a:ln>
        </p:spPr>
      </p:pic>
      <p:pic>
        <p:nvPicPr>
          <p:cNvPr id="56" name="30 Rectángulo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67.media.tumblr.com/ba745749dbb61fbb89d0f0ca96d59ef5/tumblr_msso0dt3G51rzt7f6o1_500.jpg"/>
          <p:cNvPicPr/>
          <p:nvPr/>
        </p:nvPicPr>
        <p:blipFill>
          <a:blip r:embed="rId1"/>
          <a:stretch/>
        </p:blipFill>
        <p:spPr>
          <a:xfrm>
            <a:off x="0" y="0"/>
            <a:ext cx="438156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67.media.tumblr.com/ba745749dbb61fbb89d0f0ca96d59ef5/tumblr_msso0dt3G51rzt7f6o1_500.jpg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30 Rectángul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67.media.tumblr.com/42175b4b8c9836cae87614311212af34/tumblr_mnc7qtl4VK1rzt7f6o1_500.jpg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67.media.tumblr.com/42175b4b8c9836cae87614311212af34/tumblr_mnc7qtl4VK1rzt7f6o1_500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30 Rectángul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2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65.media.tumblr.com/9e27b37e9067c833e6735b07d75f5f71/tumblr_mmmr31i35F1rzt7f6o1_500.jpg"/>
          <p:cNvPicPr/>
          <p:nvPr/>
        </p:nvPicPr>
        <p:blipFill>
          <a:blip r:embed="rId1"/>
          <a:stretch/>
        </p:blipFill>
        <p:spPr>
          <a:xfrm>
            <a:off x="1643040" y="357120"/>
            <a:ext cx="6072120" cy="6072120"/>
          </a:xfrm>
          <a:prstGeom prst="rect">
            <a:avLst/>
          </a:prstGeom>
          <a:ln w="0">
            <a:noFill/>
          </a:ln>
        </p:spPr>
      </p:pic>
      <p:pic>
        <p:nvPicPr>
          <p:cNvPr id="64" name="30 Rectángul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2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67.media.tumblr.com/c8b2fe64c9606fe5c63b7e4e5b4fceec/tumblr_mmmr29mHk51rzt7f6o1_500.jpg"/>
          <p:cNvPicPr/>
          <p:nvPr/>
        </p:nvPicPr>
        <p:blipFill>
          <a:blip r:embed="rId1"/>
          <a:stretch/>
        </p:blipFill>
        <p:spPr>
          <a:xfrm>
            <a:off x="2143080" y="0"/>
            <a:ext cx="455616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30 Rectángul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64320" y="5589720"/>
            <a:ext cx="136692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25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6T13:52:15Z</dcterms:created>
  <dc:creator>pepe</dc:creator>
  <dc:description/>
  <dc:language>en-US</dc:language>
  <cp:lastModifiedBy>Anita Dinamita</cp:lastModifiedBy>
  <dcterms:modified xsi:type="dcterms:W3CDTF">2016-12-09T13:36:27Z</dcterms:modified>
  <cp:revision>2</cp:revision>
  <dc:subject/>
  <dc:title>Diapositiva 1</dc:title>
</cp:coreProperties>
</file>