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CAD-31F7-41BF-95FA-50565ADC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0A0-1D83-4406-B8F9-30B160B0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ACA-3599-47B0-8C66-9F632A8F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47E-70F4-4D48-99AD-BE4B68BC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C1A-99E3-4379-9C19-119E750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F8B-BB71-447F-96ED-FFBBF28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0FE-F664-4049-A42A-8C3A842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06F-04F5-43A8-B5C9-86C3588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413-A886-4921-BC32-4E36CE4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334-F025-436C-BF56-198D023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0A4-B080-42A2-94D0-B946981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70F-2036-468A-BC3B-0EF3BFA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4C76-FFAC-4AD0-8F9D-36BD0DA8127A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zerkalos.ru/eng/views/stars777.htm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7c80"/>
                </a:solidFill>
                <a:latin typeface="Times New Roman"/>
              </a:rPr>
              <a:t>5   0</a:t>
            </a: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T   O   P       G   I   R   L   S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E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P   l   a   y   g   i   r   l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Brooke Richards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E RICH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906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Heather Carolin - The girl of a year PlayBoy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43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HER CAR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968400" y="6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03280" y="9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Karen McDougal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400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MCDO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3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IA FU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Alexis Contopulos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400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IS CONTOP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0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4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LENE KU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00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Y TY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9680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Alesha Oreskovich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400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HA ORESKOV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5014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Summer Altice - Sex a model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ER AL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rystal Beddows - The girl of a month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BED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Tina Jordan - Девушка месяца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A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506520" y="96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Nichole Van Croft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400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OLE VAN CR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IE BERG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Heather Spytek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HER SP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Shae Marks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400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E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Jill Scott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400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LL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Kaelie Hart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ELIE 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014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Brande Roderick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E RODE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Shanna Moaker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0" y="64008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NA MO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Veronica Moore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400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ONICA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498600" y="9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Gena Lee Nolin - Sex of a model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4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400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A LEE N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Shannon Stewart - Sex a model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4008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NNON STE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Lauren Anderson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EN 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Jeanette Martinez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00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ETTE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4809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Irina Voronina - Sex a model PlayBoy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NA VORO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Kim Hiott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 HI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Gina Patrone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400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NA PAT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TSTI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95360" y="90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Christi Shake - Models from PlayBoy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Anka Romensky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6400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KA ROMA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Kerissa Fare - The girl of a year PlayB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ISSA 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Katie Hadorn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IE HAD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Erika Michelle Barre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A MICHELLE BA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Nicole Marie Lenz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400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00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OLE MARIE L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Merritt Cabal - Sex of a mode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RITT CA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Star Zemba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64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SE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506520" y="96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Tailor James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Candice Michelle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CE  MI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511200" y="99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Jennifer Walcott - Models from PlayBoy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73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400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NIFER WAL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Aubrie Lemon - The girl of a month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ERIE 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TALIA SOKOL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400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LA 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30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 BO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40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Y CO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Kimberley Stanfield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BERLEY STAN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400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A SCHU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6400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5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G HI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5032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Tiffany Taylor - Sex of a mode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400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AN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Stephanie Heinrich - The girl of a month PlayBoy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400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HEIN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rista Nicole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400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A NI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A LE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2:37:07Z</dcterms:created>
  <dc:creator>oivind</dc:creator>
  <dc:description/>
  <dc:language>en-US</dc:language>
  <cp:lastModifiedBy>Scott McCauley</cp:lastModifiedBy>
  <dcterms:modified xsi:type="dcterms:W3CDTF">2005-11-25T03:36:06Z</dcterms:modified>
  <cp:revision>6</cp:revision>
  <dc:subject/>
  <dc:title>50 grunner til ikke å være homo</dc:title>
</cp:coreProperties>
</file>