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.wmf" ContentType="image/x-wmf"/>
  <Override PartName="/ppt/media/image23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Ernesto%20Cortazar%20-%20Emmanuelle's%20Theme.wav" ContentType="audio/x-wav"/>
  <Override PartName="/ppt/media/image22.jpeg" ContentType="image/jpeg"/>
  <Override PartName="/ppt/media/image14.jpeg" ContentType="image/jpeg"/>
  <Override PartName="/ppt/media/image13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B6A3-AC89-4655-B4E7-0ED4368F0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1DE6-9B49-418F-81C1-1E54382F7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CBB0-3016-4723-A07F-17C4E8F74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1BB3-9A0F-4901-8834-D95B5B557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36AA7-BE4A-4ED1-BCED-4BAD62855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D2A4A-C3E7-442A-B380-5BAD84890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8E9F2-3DB9-41CE-88CF-A2AB5767E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B8C29-F638-44E1-A887-1C26BD26A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FE8D8-3D00-4039-8A69-5E9FBFC35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A4403-609B-4AE5-8490-59A4E565F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1067A-0909-45FC-888A-83D45D50F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225E-E79C-4B50-B421-5C502D04C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0B526-13A5-41F3-A641-C84E150A8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587D0-E9EC-4BEF-96CA-757A7A9E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84D68-E646-4C60-9E13-855227967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BE7C3-3933-4153-81BC-71F826A3C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37927-0745-4375-B852-F2C276094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DEAA-81ED-4555-88E1-3CD8E4436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7B45-8CEA-4D8F-BFFB-EEB048843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F011-D52E-49FD-879B-1255A2363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4FF4-689E-4E14-BDE2-47C3948D2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92E9-B267-41BE-B6C0-E1DB9D0B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CC72-9E18-487C-AC2A-2B85B129E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F0F3-B019-4E86-98CB-FC1941E91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bd3737"/>
                </a:gs>
                <a:gs pos="100000">
                  <a:srgbClr val="721e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21e1e"/>
                </a:gs>
                <a:gs pos="100000">
                  <a:srgbClr val="bd373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21e1e"/>
                  </a:gs>
                  <a:gs pos="100000">
                    <a:srgbClr val="bd373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d3737"/>
                  </a:gs>
                  <a:gs pos="100000">
                    <a:srgbClr val="721e1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21e1e"/>
                  </a:gs>
                  <a:gs pos="100000">
                    <a:srgbClr val="bd373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bd373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d3737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7cc2f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bd373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d3737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7cc2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64107-15DB-44D4-A87D-F4A220D865D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d3737"/>
                  </a:gs>
                  <a:gs pos="100000">
                    <a:srgbClr val="721e1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21e1e"/>
                  </a:gs>
                  <a:gs pos="100000">
                    <a:srgbClr val="bd373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50000">
                  <a:srgbClr val="f7cc2f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d3737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bd373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21e1e"/>
                  </a:gs>
                  <a:gs pos="100000">
                    <a:srgbClr val="bd373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d3737"/>
                  </a:gs>
                  <a:gs pos="100000">
                    <a:srgbClr val="721e1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21e1e"/>
                  </a:gs>
                  <a:gs pos="100000">
                    <a:srgbClr val="bd373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bd373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d3737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7cc2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42255-EFD5-43E7-98B9-52D5023B9CB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Paul%20Mauriat%20-%20Emotion.wav" TargetMode="External"/><Relationship Id="rId2" Type="http://schemas.microsoft.com/office/2007/relationships/media" Target="file:///tmp/home/.config/libreoffice/4/user/gallery/Paul%20Mauriat%20-%20Emotion.wav" TargetMode="External"/><Relationship Id="rId3" Type="http://schemas.openxmlformats.org/officeDocument/2006/relationships/image" Target="../media/image1.png"/><Relationship Id="rId4" Type="http://schemas.openxmlformats.org/officeDocument/2006/relationships/audio" Target="../media/Ernesto%20Cortazar%20-%20Emmanuelle&apos;s%20Theme.wav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101080" y="6021360"/>
            <a:ext cx="296640" cy="297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1752480" y="2514600"/>
            <a:ext cx="6934320" cy="308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7cc2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Encarando você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7cc2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  <p:sp>
        <p:nvSpPr>
          <p:cNvPr id="111" name=""/>
          <p:cNvSpPr/>
          <p:nvPr/>
        </p:nvSpPr>
        <p:spPr>
          <a:xfrm>
            <a:off x="5338080" y="5867280"/>
            <a:ext cx="247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ahoma"/>
              </a:rPr>
              <a:t>Ligue o s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SERGINHO PRODUÇÕES APRESENTA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p:transition spd="med">
    <p:wedge/>
    <p:sndAc>
      <p:stSnd>
        <p:snd r:embed="rId4" name="Ernesto%20Cortazar%20-%20Emmanuelle's%20Them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09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441360"/>
            <a:ext cx="9144000" cy="5975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41360"/>
            <a:ext cx="9144000" cy="5975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441360"/>
            <a:ext cx="9144000" cy="5975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441360"/>
            <a:ext cx="9144000" cy="5975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441360"/>
            <a:ext cx="9144000" cy="5975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441360"/>
            <a:ext cx="9144000" cy="5975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441360"/>
            <a:ext cx="9144000" cy="5975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441360"/>
            <a:ext cx="9144000" cy="5975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441360"/>
            <a:ext cx="9144000" cy="5975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441360"/>
            <a:ext cx="9144000" cy="5975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639720" y="0"/>
            <a:ext cx="78627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441360"/>
            <a:ext cx="9144000" cy="5975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441360"/>
            <a:ext cx="9144000" cy="5975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441360"/>
            <a:ext cx="9144000" cy="5975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41360"/>
            <a:ext cx="9144000" cy="5975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441360"/>
            <a:ext cx="9144000" cy="5975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441360"/>
            <a:ext cx="9144000" cy="5975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331560" y="380880"/>
            <a:ext cx="660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Se você gostou envie para 13 amig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Deve ser cumprido dentro de 24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350352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896da"/>
                </a:solidFill>
                <a:latin typeface="Arial"/>
              </a:rPr>
              <a:t>Se você não gostou, vá procurar sua turm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896da"/>
                </a:solidFill>
                <a:latin typeface="Arial"/>
              </a:rPr>
              <a:t>Seu caso é gra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441360"/>
            <a:ext cx="9144000" cy="5975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441360"/>
            <a:ext cx="9144000" cy="5975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441360"/>
            <a:ext cx="9144000" cy="5975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441360"/>
            <a:ext cx="9144000" cy="5975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441360"/>
            <a:ext cx="9144000" cy="5975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441360"/>
            <a:ext cx="9144000" cy="5975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441360"/>
            <a:ext cx="9144000" cy="5975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1T01:35:28Z</dcterms:created>
  <dc:creator>Notebook_wortmann</dc:creator>
  <dc:description/>
  <dc:language>en-US</dc:language>
  <cp:lastModifiedBy>cbloe10</cp:lastModifiedBy>
  <dcterms:modified xsi:type="dcterms:W3CDTF">2006-09-15T15:22:51Z</dcterms:modified>
  <cp:revision>4</cp:revision>
  <dc:subject/>
  <dc:title>Slide 1</dc:title>
</cp:coreProperties>
</file>