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5E3-6C1F-49C0-A8C0-A70D73F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21D-BD93-4C76-B8C6-D815569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BEA-AF2C-42AB-8E51-20D01A96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D81-80B4-475B-8690-C5B108C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80F-CF32-4BA8-BD3E-47C03004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577-6DB8-4B82-82E2-FB320A7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77F-6D35-44D5-8B9B-3ADA1A5D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A85-BB68-4C04-ADDB-294D173B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3EE-BFEA-4D8C-9D01-0D75A4EF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C96-15DC-4E0F-B66C-4924E9E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AF4-CD1D-4780-B86B-00E3718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74-E2F0-4390-B8E2-D3D1BBF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346-71F0-49A0-8637-B64A0E869E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AAACARPETA MIA\correos\herm\210831060.jpg"/>
          <p:cNvPicPr/>
          <p:nvPr/>
        </p:nvPicPr>
        <p:blipFill>
          <a:blip r:embed="rId2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  <p:pic>
        <p:nvPicPr>
          <p:cNvPr id="51" name="Picture 2" descr="C:\AAACARPETA MIA\correos\herm\260069015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AAACARPETA MIA\correos\herm\226566436.jpg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  <p:pic>
        <p:nvPicPr>
          <p:cNvPr id="53" name="Picture 2" descr="C:\AAACARPETA MIA\correos\herm\594048491.jpg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7564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CuadroTexto" descr=""/>
          <p:cNvPicPr/>
          <p:nvPr/>
        </p:nvPicPr>
        <p:blipFill>
          <a:blip r:embed="rId2"/>
          <a:stretch/>
        </p:blipFill>
        <p:spPr>
          <a:xfrm>
            <a:off x="-133200" y="1670040"/>
            <a:ext cx="9558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21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AAACARPETA MIA\correos\herm\80351744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AACARPETA MIA\correos\herm\784830957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  <p:pic>
        <p:nvPicPr>
          <p:cNvPr id="43" name="Picture 2" descr="C:\AAACARPETA MIA\correos\herm\675763380.jpg"/>
          <p:cNvPicPr/>
          <p:nvPr/>
        </p:nvPicPr>
        <p:blipFill>
          <a:blip r:embed="rId3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9360">
            <a:solidFill>
              <a:srgbClr val="fb1503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AAACARPETA MIA\correos\herm\774988604.jpg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AAACARPETA MIA\correos\herm\7515422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AAACARPETA MIA\correos\herm\688285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AAACARPETA MIA\correos\herm\1432439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AAACARPETA MIA\correos\herm\5432373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AAACARPETA MIA\correos\herm\9285487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41:46Z</dcterms:created>
  <dc:creator>LUCERO</dc:creator>
  <dc:description/>
  <dc:language>en-US</dc:language>
  <cp:lastModifiedBy>WinuE</cp:lastModifiedBy>
  <dcterms:modified xsi:type="dcterms:W3CDTF">2009-03-02T23:27:50Z</dcterms:modified>
  <cp:revision>7</cp:revision>
  <dc:subject/>
  <dc:title>Diapositiva 1</dc:title>
</cp:coreProperties>
</file>