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WHOOSH.WAV" ContentType="audio/x-wav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741-FA33-4F7B-9918-9805682C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DA0-98A0-47CB-889C-BB22064C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6E5-8231-445D-A870-69A8B216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7A7-F34A-4737-BD6F-B266841A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2A8-6D51-4849-AF54-AB5032A9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7CF-6C7D-4974-ADA8-393D85D4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602-C184-4A5F-837D-29C0AE2D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FB1-410C-4112-9FF4-8FD0BE18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BA6-1A05-4981-A66A-4266C87A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2AE-FF7F-48DA-9217-3DCE0D0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485-F248-4BC3-94E1-E1C4952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5D3-0E30-4722-A4A5-A453EE3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E50F-F526-40BB-9F32-E7065E1C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9898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66"/>
                </a:solidFill>
                <a:latin typeface="Times New Roman"/>
              </a:rPr>
              <a:t>Matulona</a:t>
            </a:r>
            <a:br>
              <a:rPr sz="6000"/>
            </a:br>
            <a:r>
              <a:rPr b="1" lang="pt-BR" sz="6000" spc="-1" strike="noStrike">
                <a:solidFill>
                  <a:srgbClr val="ffff66"/>
                </a:solidFill>
                <a:latin typeface="Times New Roman"/>
              </a:rPr>
              <a:t>muito apreciad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885840"/>
            <a:ext cx="7559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66"/>
                </a:solidFill>
                <a:latin typeface="Times New Roman"/>
              </a:rPr>
              <a:t>Repara bem neste corpaço com tudo no lug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8920" cy="710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60224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56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8920" cy="710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62440" y="0"/>
            <a:ext cx="463392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8920" cy="710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633920" cy="7174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8920" cy="710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75080" y="0"/>
            <a:ext cx="476892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8920" cy="7101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76892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42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426708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3276720" y="3716280"/>
            <a:ext cx="180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36572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66"/>
                </a:solidFill>
                <a:latin typeface="Times New Roman"/>
              </a:rPr>
              <a:t>E não te esqueças de a enviares aos amigo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5480" cy="710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76856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8240" cy="717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08360" cy="7174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8920" cy="710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62440" y="0"/>
            <a:ext cx="476892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8920" cy="710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6244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8920" cy="710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62440" y="0"/>
            <a:ext cx="476892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8280" cy="710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75080" y="0"/>
            <a:ext cx="476892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2:41:31Z</dcterms:created>
  <dc:creator>Matt Wall</dc:creator>
  <dc:description/>
  <dc:language>en-US</dc:language>
  <cp:lastModifiedBy>Luis Guimarães</cp:lastModifiedBy>
  <dcterms:modified xsi:type="dcterms:W3CDTF">2012-02-17T23:29:57Z</dcterms:modified>
  <cp:revision>15</cp:revision>
  <dc:subject/>
  <dc:title>No Slide Title</dc:title>
</cp:coreProperties>
</file>