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BE6-4786-426D-9149-5C0303AF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6CB-7FED-4DF0-ADD5-4D5EB7A1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B1F-5F04-47CD-8840-7EE2CD6A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AD5-78AD-447E-BEA8-6B27334C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E0E-2FA9-46AA-95C3-AF910B5F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DC4-4385-429E-A629-83335AE1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D9E-CC72-4C6A-B7B9-162E87BC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DD5-9CF7-4436-899C-EDFBCC5A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165-AAF4-4002-BA60-621CB46C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CCB-01E2-4C90-AE73-6011F25B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889-41DF-42C0-BBD8-7D975A08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5BB-5A99-4EFA-ABA9-26FA432D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2D1A-EEC4-4292-9BD7-C1FAA0E1B2D6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7920" y="0"/>
            <a:ext cx="51912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1:32:50Z</dcterms:created>
  <dc:creator/>
  <dc:description/>
  <dc:language>en-US</dc:language>
  <cp:lastModifiedBy>SR. N</cp:lastModifiedBy>
  <dcterms:modified xsi:type="dcterms:W3CDTF">2005-06-07T13:37:43Z</dcterms:modified>
  <cp:revision>14</cp:revision>
  <dc:subject/>
  <dc:title> Best of Brasil </dc:title>
</cp:coreProperties>
</file>