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26.jpeg" ContentType="image/jpeg"/>
  <Override PartName="/ppt/media/image5.jpeg" ContentType="image/jpeg"/>
  <Override PartName="/ppt/media/image32.jpeg" ContentType="image/jpeg"/>
  <Override PartName="/ppt/media/image28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29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3.gif" ContentType="image/gif"/>
  <Override PartName="/ppt/media/image2.jpeg" ContentType="image/jpeg"/>
  <Override PartName="/ppt/media/image23.jpeg" ContentType="image/jpeg"/>
  <Override PartName="/ppt/media/What%20a%20wonderful%20world.wav" ContentType="audio/x-wav"/>
  <Override PartName="/ppt/media/image6.jpeg" ContentType="image/jpeg"/>
  <Override PartName="/ppt/media/image27.jpeg" ContentType="image/jpeg"/>
  <Override PartName="/ppt/media/image10.png" ContentType="image/png"/>
  <Override PartName="/ppt/media/image1.jpeg" ContentType="image/jpeg"/>
  <Override PartName="/ppt/media/image22.jpeg" ContentType="image/jpeg"/>
  <Override PartName="/ppt/media/image13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5486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486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5486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5486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5486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5486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486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85800" y="5486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5486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5486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5486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200"/>
            </a:gs>
            <a:gs pos="100000">
              <a:srgbClr val="00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486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Comic Sans MS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What%20a%20wonderful%20world.wav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gi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200"/>
            </a:gs>
            <a:gs pos="100000">
              <a:srgbClr val="00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456840" y="2971440"/>
            <a:ext cx="838188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por </a:t>
            </a:r>
            <a:r>
              <a:rPr b="1" i="1" lang="en-US" sz="2800" spc="-1" strike="noStrike">
                <a:solidFill>
                  <a:srgbClr val="ffff00"/>
                </a:solidFill>
                <a:latin typeface="Comic Sans MS"/>
              </a:rPr>
              <a:t>Louis Armstrong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... e muito mais ... !!!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 Black"/>
              </a:rPr>
              <a:t>D E L I C I A  - T E  !!!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Desfruta .... deixa passar os slides automaticamente ...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... a música inicia-se no próximo slide ...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" name=""/>
          <p:cNvSpPr/>
          <p:nvPr/>
        </p:nvSpPr>
        <p:spPr>
          <a:xfrm>
            <a:off x="1127160" y="1189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"/>
          <p:cNvSpPr txBox="1"/>
          <p:nvPr/>
        </p:nvSpPr>
        <p:spPr>
          <a:xfrm>
            <a:off x="685800" y="380880"/>
            <a:ext cx="792468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What A Wonderful World</a:t>
            </a:r>
            <a:endParaRPr b="1" lang="en-US" sz="5400" spc="1" strike="noStrike">
              <a:ln w="9360">
                <a:solidFill>
                  <a:srgbClr val="ffff00"/>
                </a:solidFill>
                <a:miter/>
              </a:ln>
              <a:solidFill>
                <a:srgbClr val="ff0000">
                  <a:alpha val="50000"/>
                </a:srgbClr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200"/>
            </a:gs>
            <a:gs pos="100000">
              <a:srgbClr val="00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486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a escura noite sagrada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295280" y="380880"/>
            <a:ext cx="6824880" cy="5348520"/>
          </a:xfrm>
          <a:prstGeom prst="rect">
            <a:avLst/>
          </a:prstGeom>
          <a:ln w="0">
            <a:noFill/>
          </a:ln>
        </p:spPr>
      </p:pic>
    </p:spTree>
  </p:cSld>
  <p:transition spd="med" advTm="2000">
    <p:fade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8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9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3" dur="1" fill="hold"/>
                                  <p:tgtEl>
                                    <p:spTgt spid="5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66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200"/>
            </a:gs>
            <a:gs pos="100000">
              <a:srgbClr val="00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5943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e pensei para mim mesmo,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295280" y="304920"/>
            <a:ext cx="6477120" cy="553860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200"/>
            </a:gs>
            <a:gs pos="100000">
              <a:srgbClr val="00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Klik op de foto om originele grootte te bekijken"/>
          <p:cNvPicPr/>
          <p:nvPr/>
        </p:nvPicPr>
        <p:blipFill>
          <a:blip r:embed="rId1"/>
          <a:stretch/>
        </p:blipFill>
        <p:spPr>
          <a:xfrm>
            <a:off x="2438280" y="304920"/>
            <a:ext cx="4051440" cy="548640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5486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que mundo maravilhoso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 spd="med" advTm="6000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200"/>
            </a:gs>
            <a:gs pos="100000">
              <a:srgbClr val="00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15320"/>
          </a:xfrm>
          <a:prstGeom prst="rect">
            <a:avLst/>
          </a:prstGeom>
          <a:ln w="0">
            <a:noFill/>
          </a:ln>
        </p:spPr>
      </p:pic>
    </p:spTree>
  </p:cSld>
  <p:transition advTm="5000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200"/>
            </a:gs>
            <a:gs pos="100000">
              <a:srgbClr val="00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514600" y="228600"/>
            <a:ext cx="4167360" cy="624852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200"/>
            </a:gs>
            <a:gs pos="100000">
              <a:srgbClr val="00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2286000" y="152280"/>
            <a:ext cx="4290840" cy="64771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 advTm="4000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200"/>
            </a:gs>
            <a:gs pos="100000">
              <a:srgbClr val="00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8610480" cy="632448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200"/>
            </a:gs>
            <a:gs pos="100000">
              <a:srgbClr val="00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286000" y="152280"/>
            <a:ext cx="4857840" cy="647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200"/>
            </a:gs>
            <a:gs pos="100000">
              <a:srgbClr val="00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943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as cores do arco-íris,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066680" y="228600"/>
            <a:ext cx="7239240" cy="557532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fade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0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1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5" dur="1" fill="hold"/>
                                  <p:tgtEl>
                                    <p:spTgt spid="68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00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200"/>
            </a:gs>
            <a:gs pos="100000">
              <a:srgbClr val="00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5866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tão belas no céu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2971800" y="304920"/>
            <a:ext cx="3265560" cy="5486400"/>
          </a:xfrm>
          <a:prstGeom prst="rect">
            <a:avLst/>
          </a:prstGeom>
          <a:ln w="0">
            <a:noFill/>
          </a:ln>
        </p:spPr>
      </p:pic>
    </p:spTree>
  </p:cSld>
  <p:transition spd="med" advTm="2000">
    <p:fade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2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3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4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17" dur="1" fill="hold"/>
                                  <p:tgtEl>
                                    <p:spTgt spid="70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99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200"/>
            </a:gs>
            <a:gs pos="100000">
              <a:srgbClr val="00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19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                                        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Vi árvores verde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" name=""/>
          <p:cNvSpPr/>
          <p:nvPr/>
        </p:nvSpPr>
        <p:spPr>
          <a:xfrm>
            <a:off x="2438280" y="1676520"/>
            <a:ext cx="3733920" cy="30542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 advTm="6000">
    <p:fade/>
    <p:sndAc>
      <p:stSnd>
        <p:snd r:embed="rId2" name="What%20a%20wonderful%20world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2" dur="1" fill="hold"/>
                                  <p:tgtEl>
                                    <p:spTgt spid="4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99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200"/>
            </a:gs>
            <a:gs pos="100000">
              <a:srgbClr val="00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5791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estão também nas cara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73" name="whtlng_0128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8763120" cy="5492520"/>
          </a:xfrm>
          <a:prstGeom prst="rect">
            <a:avLst/>
          </a:prstGeom>
          <a:ln w="0">
            <a:noFill/>
          </a:ln>
        </p:spPr>
      </p:pic>
    </p:spTree>
  </p:cSld>
  <p:transition spd="med" advTm="2000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200"/>
            </a:gs>
            <a:gs pos="100000">
              <a:srgbClr val="00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5791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das pessoas que passeiam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609480" y="380880"/>
            <a:ext cx="8001000" cy="5392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200"/>
            </a:gs>
            <a:gs pos="100000">
              <a:srgbClr val="00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5791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Vi amigos a apertarem as mãos,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2666880" y="152280"/>
            <a:ext cx="3990960" cy="556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200"/>
            </a:gs>
            <a:gs pos="100000">
              <a:srgbClr val="00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486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e a dizerem “como estás?”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2895480" y="228600"/>
            <a:ext cx="3514680" cy="541008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200"/>
            </a:gs>
            <a:gs pos="100000">
              <a:srgbClr val="00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5486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Realmente estão a dizer “Amo-te”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2590920" y="380880"/>
            <a:ext cx="3789360" cy="510552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fade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4" dur="80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5" dur="80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6" dur="80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29" dur="1" fill="hold"/>
                                  <p:tgtEl>
                                    <p:spTgt spid="80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99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200"/>
            </a:gs>
            <a:gs pos="100000">
              <a:srgbClr val="00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5486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Ouvi bebés a chorar,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685800" y="380880"/>
            <a:ext cx="7924680" cy="530388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200"/>
            </a:gs>
            <a:gs pos="100000">
              <a:srgbClr val="00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5486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E vi-os crescer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457200" y="380880"/>
            <a:ext cx="8229600" cy="515628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fade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200"/>
            </a:gs>
            <a:gs pos="100000">
              <a:srgbClr val="00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5486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Aprenderão muito mai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609480" y="304920"/>
            <a:ext cx="7925040" cy="5416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200"/>
            </a:gs>
            <a:gs pos="100000">
              <a:srgbClr val="00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5943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Do que eu jamais saberei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380880" y="152280"/>
            <a:ext cx="8382240" cy="559440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200"/>
            </a:gs>
            <a:gs pos="100000">
              <a:srgbClr val="00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5486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E pensei para mim mesmo,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2895480" y="228600"/>
            <a:ext cx="3426120" cy="548640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200"/>
            </a:gs>
            <a:gs pos="100000">
              <a:srgbClr val="00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5866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e rosas vermelhas também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743200" y="152280"/>
            <a:ext cx="3706920" cy="571500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fade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4" dur="1" fill="hold"/>
                                  <p:tgtEl>
                                    <p:spTgt spid="4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200"/>
            </a:gs>
            <a:gs pos="100000">
              <a:srgbClr val="00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2533680" y="380880"/>
            <a:ext cx="3943440" cy="525780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5866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que mundo maravilhoso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 spd="med" advTm="6000"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200"/>
            </a:gs>
            <a:gs pos="100000">
              <a:srgbClr val="00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5486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Sim, pensei para mim mesmo,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2590920" y="380880"/>
            <a:ext cx="3681360" cy="533412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200"/>
            </a:gs>
            <a:gs pos="100000">
              <a:srgbClr val="00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8458200" cy="570060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5486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que mundo maravilhoso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200"/>
            </a:gs>
            <a:gs pos="100000">
              <a:srgbClr val="00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533520" y="533520"/>
            <a:ext cx="8076960" cy="60577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>
            <a:hlinkClick r:id="" action="ppaction://hlinkshowjump?jump=endshow"/>
          </p:cNvPr>
          <p:cNvPicPr/>
          <p:nvPr/>
        </p:nvPicPr>
        <p:blipFill>
          <a:blip r:embed="rId2"/>
          <a:stretch/>
        </p:blipFill>
        <p:spPr>
          <a:xfrm>
            <a:off x="1770120" y="5334120"/>
            <a:ext cx="527040" cy="6858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1219320" y="228600"/>
            <a:ext cx="6478560" cy="2257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  <a:effectLst>
            <a:outerShdw dist="17819" dir="2700000" blurRad="0" rotWithShape="0">
              <a:srgbClr val="8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  <a:ea typeface="Arial"/>
              </a:rPr>
              <a:t>Que tenhas uma maravilhosa semana num mundo maravilhoso !!!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200"/>
            </a:gs>
            <a:gs pos="100000">
              <a:srgbClr val="00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17184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vias florecer para mim e para ti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" name=""/>
          <p:cNvSpPr/>
          <p:nvPr/>
        </p:nvSpPr>
        <p:spPr>
          <a:xfrm>
            <a:off x="2639880" y="0"/>
            <a:ext cx="3913200" cy="609588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 advTm="5000">
    <p:fad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" dur="80"/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" dur="80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" dur="80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6" dur="1" fill="hold"/>
                                  <p:tgtEl>
                                    <p:spTgt spid="4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200"/>
            </a:gs>
            <a:gs pos="100000">
              <a:srgbClr val="00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5486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e pensei para mim mesmo,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447920" y="380880"/>
            <a:ext cx="6522840" cy="535464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200"/>
            </a:gs>
            <a:gs pos="100000">
              <a:srgbClr val="00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5486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que mundo maravilhoso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09480" y="398520"/>
            <a:ext cx="8077320" cy="542772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fade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8" dur="1" fill="hold"/>
                                  <p:tgtEl>
                                    <p:spTgt spid="4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200"/>
            </a:gs>
            <a:gs pos="100000">
              <a:srgbClr val="00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5486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Vi céus azui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066680" y="228600"/>
            <a:ext cx="7086600" cy="572760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fade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" dur="80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0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" dur="80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" dur="80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0" dur="1" fill="hold"/>
                                  <p:tgtEl>
                                    <p:spTgt spid="5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200"/>
            </a:gs>
            <a:gs pos="100000">
              <a:srgbClr val="00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5486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e nuvens branca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8458200" cy="518616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fade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" dur="80"/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8,-128,-1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" dur="80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" dur="80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200"/>
            </a:gs>
            <a:gs pos="100000">
              <a:srgbClr val="00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5486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O brilhante e abençoado dia,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819520" y="304920"/>
            <a:ext cx="3238560" cy="5333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6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7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81" dur="1" fill="hold"/>
                                  <p:tgtEl>
                                    <p:spTgt spid="5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14T19:33:50Z</dcterms:created>
  <dc:creator/>
  <dc:description/>
  <dc:language>en-US</dc:language>
  <cp:lastModifiedBy>Homo Sapiens</cp:lastModifiedBy>
  <dcterms:modified xsi:type="dcterms:W3CDTF">2007-12-18T20:08:30Z</dcterms:modified>
  <cp:revision>93</cp:revision>
  <dc:subject/>
  <dc:title/>
</cp:coreProperties>
</file>