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81400" y="6431040"/>
            <a:ext cx="23194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ps Download Cent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ppscenter.free.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pscenter.free.fr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9966ff"/>
                </a:solidFill>
                <a:latin typeface="Denmark"/>
              </a:rPr>
              <a:t>Pps Download Cen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Denmark"/>
                <a:hlinkClick r:id="rId1"/>
              </a:rPr>
              <a:t>http://ppscenter.free.f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3:24:05Z</dcterms:created>
  <dc:creator>http://ppscenter.free.fr</dc:creator>
  <dc:description/>
  <dc:language>en-US</dc:language>
  <cp:lastModifiedBy>RealMcX</cp:lastModifiedBy>
  <dcterms:modified xsi:type="dcterms:W3CDTF">2003-02-10T15:07:22Z</dcterms:modified>
  <cp:revision>10</cp:revision>
  <dc:subject/>
  <dc:title>Diapositive 1</dc:title>
</cp:coreProperties>
</file>