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3D5D-DB18-4E0F-ACBF-61F6E7FE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ECEF-519D-4E80-93EF-6AB83ACA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18E5-D458-4D71-B026-0930D7CF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60C5-3ECC-4CBA-81EC-08E61DB1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429-9CB7-4CD2-9437-F6A6F1B9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EB78-A600-41EB-B477-2D4B9463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24B-26B4-4F0A-8D2C-0DCCB92E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5BD6-DE6B-4466-84D3-6BC4C46B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40E-67DF-44BF-9CB0-C7CCEA01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F38-7BE8-4181-8EF1-B786B60E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AB6C-2A83-462D-979A-2AC5EBB3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3B59-5284-4843-AB7D-67D51BE9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7757-E40C-46BC-9984-2835E108B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7:33:39Z</dcterms:created>
  <dc:creator>PC1</dc:creator>
  <dc:description/>
  <dc:language>en-US</dc:language>
  <cp:lastModifiedBy>PC1</cp:lastModifiedBy>
  <dcterms:modified xsi:type="dcterms:W3CDTF">2010-07-26T08:12:36Z</dcterms:modified>
  <cp:revision>3</cp:revision>
  <dc:subject/>
  <dc:title>Slayt 1</dc:title>
</cp:coreProperties>
</file>