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0EB-A6A5-45C0-8475-918E92FB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05E-A3C8-4154-9B71-87B8AD4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A00-F814-4163-8926-4311BBA7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F66-158D-43D7-844D-69B434EC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048-C448-485C-8B01-FC29B4DF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08D-3DF2-4D5E-B3E2-EA89CAD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381-CDF9-4AB0-B6C0-8595669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BAC-E81C-4514-855D-2D3BCD16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CA1-21C4-465C-B4CE-5F42A1D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31D-716F-44E5-9EE6-652F495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5F3-15B8-4E53-9C1A-0CEA968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040-F930-4D1C-984B-E228B8D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8C79-0C64-43F8-8165-77ADFADB2A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0d0f0f"/>
            </a:gs>
            <a:gs pos="100000">
              <a:srgbClr val="def6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00400" y="0"/>
            <a:ext cx="45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6:46:49Z</dcterms:created>
  <dc:creator>ge</dc:creator>
  <dc:description/>
  <dc:language>en-US</dc:language>
  <cp:lastModifiedBy>Cesar Restrepo</cp:lastModifiedBy>
  <dcterms:modified xsi:type="dcterms:W3CDTF">2009-08-14T16:19:32Z</dcterms:modified>
  <cp:revision>10</cp:revision>
  <dc:subject/>
  <dc:title>Dia 1</dc:title>
</cp:coreProperties>
</file>