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42.gif" ContentType="image/gif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05A-7CE6-43FE-8D39-DE781CF2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04D-C757-44B8-B9B9-CC85860D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7CC-3AB6-483A-8932-6D5B22FA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81B-FEC5-4545-A2E0-2F746F62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F12-A037-4371-8187-368557B0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B8E-3A4A-4707-9F1A-9212C163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E07E-5470-4A64-A582-209AB24C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0D7-499D-406C-8B1A-4AC50D82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2B6-4F1E-4E53-B232-01AC55DA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97A-D6B7-425C-BA51-AE1438A0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55D-A3D5-43A6-B367-B3CE4A9A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296-17E4-401E-ACBE-5D5592C3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1C37-9445-4413-BDE7-504B067B9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45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0"/>
            <a:ext cx="455796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182080" y="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428840" cy="7621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45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0"/>
            <a:ext cx="51339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0"/>
            <a:ext cx="51339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2600"/>
            <a:ext cx="9144000" cy="6845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45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45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58920" cy="977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918560" y="0"/>
            <a:ext cx="1225440" cy="952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600"/>
            <a:ext cx="9144000" cy="6845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45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600"/>
            <a:ext cx="9144000" cy="6845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600"/>
            <a:ext cx="9144000" cy="6845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7:16:04Z</dcterms:created>
  <dc:creator>ge</dc:creator>
  <dc:description/>
  <dc:language>en-US</dc:language>
  <cp:lastModifiedBy>ge</cp:lastModifiedBy>
  <dcterms:modified xsi:type="dcterms:W3CDTF">2009-11-09T17:33:04Z</dcterms:modified>
  <cp:revision>9</cp:revision>
  <dc:subject/>
  <dc:title>Dia 1</dc:title>
</cp:coreProperties>
</file>