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E829-CE3B-4A66-B36B-0AADC3DD9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77AE-EAE0-4A05-9FEF-397FBF10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942A-4B61-4C56-8695-C474198E0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0945-461B-4F2D-9F39-05EE454D6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A232-7BE5-4DD3-A4AB-4F696DBCD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A51A-B158-4C0C-A2D5-4946CE92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5150-9A75-403B-B95F-85D5885C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4465-29DB-4130-86ED-CE818B8A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A66F-73D0-4F6B-A341-C5F8F817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09FD-88E3-408E-975F-A0DEE09E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0E94-6051-4CE8-98D5-D32DEEB5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A961-4CC2-4086-B1E0-6A8D4472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25FE-BCB4-41E7-B139-98652B4D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8A85E-38F5-4A90-B511-7C2C3341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3266-63E5-44A8-865D-29F56ED4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36796-E26C-4E2F-ADAB-F3BD78E66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93AD-1788-4D65-BB81-6874E99D1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855B-A2FB-42CE-8A52-70FAF348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E126-DCD8-427A-AF66-23303E5B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5DDA-80C3-43F2-9187-9451D7AA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84A1-48CE-48D8-8D6C-3D011F07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1163-54AF-426B-B0A0-1D212120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657D-91C3-44B2-A205-74B05390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BDB6-C3DE-4907-A7F8-0806EB82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0d06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7279-5AC3-4C64-87B6-43F2F31A8BD2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0d06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8E5F-D28D-463B-B48D-27F8561FF684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Comic Sans MS"/>
              </a:rPr>
              <a:t>Puro Filete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563920" y="6092640"/>
            <a:ext cx="6400800" cy="67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Gracias Raf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7" name="Picture 2" descr="09-lrg.jpg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9" name="Picture 2" descr="10-lrg.jpg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1" name="Picture 2" descr="11-lrg.jpg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97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3" name="Picture 2" descr="12-lrg.jpg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5" name="Picture 2" descr="13-lrg.jpg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97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7" name="Picture 2" descr="14-lrg.jpg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9" name="Picture 2" descr="15-lrg.jpg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1" name="Picture 2" descr="16-lrg.jpg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3" name="Picture 2" descr="17-lrg.jpg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5" name="Picture 2" descr="18-lrg.jpg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1" name="Picture 3" descr="01-lrg.jpg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7" name="Picture 2" descr="19-lrg.jpg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9" name="Picture 2" descr="20-lrg.jpg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1" name="Picture 2" descr="21-lrg.jpg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3" name="Picture 2" descr="22-lrg.jpg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5" name="Picture 2" descr="23-lrg.jpg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7" name="Picture 2" descr="24-lrg.jpg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9" name="Picture 2" descr="25-lrg.jpg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1" name="Picture 2" descr="26-lrg.jpg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3" name="Picture 2" descr="27-lrg.jpg"/>
          <p:cNvPicPr/>
          <p:nvPr/>
        </p:nvPicPr>
        <p:blipFill>
          <a:blip r:embed="rId1"/>
          <a:stretch/>
        </p:blipFill>
        <p:spPr>
          <a:xfrm>
            <a:off x="-898560" y="-214200"/>
            <a:ext cx="10618920" cy="70722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5" name="Picture 2" descr="28-lrg.jpg"/>
          <p:cNvPicPr/>
          <p:nvPr/>
        </p:nvPicPr>
        <p:blipFill>
          <a:blip r:embed="rId1"/>
          <a:stretch/>
        </p:blipFill>
        <p:spPr>
          <a:xfrm>
            <a:off x="-576360" y="0"/>
            <a:ext cx="102967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3" name="Picture 2" descr="02-lrg.jpg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97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7" name="Picture 2" descr="29-lrg.jpg"/>
          <p:cNvPicPr/>
          <p:nvPr/>
        </p:nvPicPr>
        <p:blipFill>
          <a:blip r:embed="rId1"/>
          <a:stretch/>
        </p:blipFill>
        <p:spPr>
          <a:xfrm>
            <a:off x="2428920" y="0"/>
            <a:ext cx="45687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9" name="Picture 2" descr="30-lrg.jpg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1" name="Picture 2" descr="31-lrg.jpg"/>
          <p:cNvPicPr/>
          <p:nvPr/>
        </p:nvPicPr>
        <p:blipFill>
          <a:blip r:embed="rId1"/>
          <a:stretch/>
        </p:blipFill>
        <p:spPr>
          <a:xfrm>
            <a:off x="-642960" y="0"/>
            <a:ext cx="102967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3" name="Picture 2" descr="32-lrg.jpg"/>
          <p:cNvPicPr/>
          <p:nvPr/>
        </p:nvPicPr>
        <p:blipFill>
          <a:blip r:embed="rId1"/>
          <a:stretch/>
        </p:blipFill>
        <p:spPr>
          <a:xfrm>
            <a:off x="-576360" y="0"/>
            <a:ext cx="102967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5" name="Picture 2" descr="33-lrg.jpg"/>
          <p:cNvPicPr/>
          <p:nvPr/>
        </p:nvPicPr>
        <p:blipFill>
          <a:blip r:embed="rId1"/>
          <a:stretch/>
        </p:blipFill>
        <p:spPr>
          <a:xfrm>
            <a:off x="-576360" y="0"/>
            <a:ext cx="102967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7" name="Picture 2" descr="34-lrg.jpg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97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9" name="Picture 2" descr="35-lrg.jpg"/>
          <p:cNvPicPr/>
          <p:nvPr/>
        </p:nvPicPr>
        <p:blipFill>
          <a:blip r:embed="rId1"/>
          <a:stretch/>
        </p:blipFill>
        <p:spPr>
          <a:xfrm>
            <a:off x="-428760" y="0"/>
            <a:ext cx="102981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1" name="Picture 2" descr="36-lrg.jpg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5" name="Picture 2" descr="03-lrg.jpg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7" name="Picture 2" descr="04-lrg.jpg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9" name="Picture 2" descr="05-lrg.jpg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1" name="Picture 2" descr="06-lrg.jpg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97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3" name="Picture 2" descr="07-lrg.jpg"/>
          <p:cNvPicPr/>
          <p:nvPr/>
        </p:nvPicPr>
        <p:blipFill>
          <a:blip r:embed="rId1"/>
          <a:stretch/>
        </p:blipFill>
        <p:spPr>
          <a:xfrm>
            <a:off x="0" y="911160"/>
            <a:ext cx="9144000" cy="50356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5" name="Picture 2" descr="08-lrg.jpg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97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21:30:48Z</dcterms:created>
  <dc:creator>Chubaka Producciones Inc.</dc:creator>
  <dc:description>Chubaka Producciones Inc.</dc:description>
  <cp:keywords>Chubaka Producciones Inc.</cp:keywords>
  <dc:language>en-US</dc:language>
  <cp:lastModifiedBy>Carlos A Pravia</cp:lastModifiedBy>
  <dcterms:modified xsi:type="dcterms:W3CDTF">2008-09-30T23:17:47Z</dcterms:modified>
  <cp:revision>11</cp:revision>
  <dc:subject>Chubaka Producciones Inc.</dc:subject>
  <dc:title>Chubaka Producciones Inc.</dc:title>
</cp:coreProperties>
</file>