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388-170B-49E5-968B-64739208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A30-7B67-4616-B2DA-CF39DF4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58A-1EAD-4AA0-B8EB-71B411D8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DF9-1D55-4964-ADAD-60AEFDA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C16-3FC5-446E-8C18-86CC95A9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AEC-DE52-4120-88CF-537C352F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E2C-A6F9-4F7D-9D1F-2D1202B9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E51-587D-48B2-BB53-0DF55F9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41-9111-4DB4-B5A8-D5C86D2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8FA-A96B-495C-B234-12821BA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84C-B865-49FC-AFF0-92F9FD1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7E2-FCBD-4D01-AE1A-7E9FBF4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3B3-F96D-45B7-B46B-E8A8EA1A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1619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BankGothic Md BT"/>
              </a:rPr>
              <a:t>www.</a:t>
            </a:r>
            <a:r>
              <a:rPr b="1" lang="de-DE" sz="7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de-DE" sz="700" spc="-1" strike="noStrike">
                <a:solidFill>
                  <a:srgbClr val="ffffff"/>
                </a:solidFill>
                <a:latin typeface="BankGothic Md BT"/>
              </a:rPr>
              <a:t>-entertainment.com</a:t>
            </a:r>
            <a:r>
              <a:rPr b="0" lang="de-DE" sz="700" spc="-1" strike="noStrike">
                <a:solidFill>
                  <a:srgbClr val="ffffff"/>
                </a:solidFill>
                <a:latin typeface="BankGothic Md BT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hyperlink" Target="http://www.cm-entertainment.com/" TargetMode="External"/><Relationship Id="rId4" Type="http://schemas.openxmlformats.org/officeDocument/2006/relationships/image" Target="../media/image27.gif"/><Relationship Id="rId5" Type="http://schemas.openxmlformats.org/officeDocument/2006/relationships/hyperlink" Target="mailto:HardCore@CM-entertainment.com?subject=Hot%20pps" TargetMode="External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412800">
            <a:off x="139680" y="4533480"/>
            <a:ext cx="210816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400800" cy="69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Brianna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ook at her HighEnd Pu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500280"/>
            <a:ext cx="820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4360" y="559116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652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9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omic Sans MS"/>
              </a:rPr>
              <a:t>Blondy in orang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nimRot by="21600000">
                                      <p:cBhvr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nimRot by="21600000">
                                      <p:cBhvr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780000" y="2349360"/>
            <a:ext cx="50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43400" y="2060640"/>
            <a:ext cx="804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87640" y="3573360"/>
            <a:ext cx="3241800" cy="1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Unicode MS"/>
              </a:rPr>
              <a:t>E N T E R T A I N M E N T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126828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BankGothic Md BT"/>
              </a:rPr>
              <a:t>Presen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BankGothic Md BT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162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360" y="3429000"/>
            <a:ext cx="345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773360"/>
            <a:ext cx="0" cy="64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300720" y="2997360"/>
            <a:ext cx="0" cy="57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1167400">
            <a:off x="3492000" y="4149360"/>
            <a:ext cx="2345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Comic Sans MS"/>
              </a:rPr>
              <a:t>Erotic Art‘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69840"/>
            <a:ext cx="932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-1810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6232680"/>
            <a:ext cx="640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Unicode MS"/>
              </a:rPr>
              <a:t>Diese PPS Datei ist eine private und kostenlose Leistung, die zur Unterhaltung in einer kleinen sexgeilen Community per Mail mit erotischen Bildern, PowerPoints usw. zugestellt wi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Unicode MS"/>
              </a:rPr>
              <a:t>Es werden hierbei keine Marken und Patente verletz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1382760" cy="90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92720" y="3068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BankGothic Md BT"/>
              </a:rPr>
              <a:t>2005</a:t>
            </a:r>
            <a:r>
              <a:rPr b="0" lang="de-DE" sz="1400" spc="-1" strike="noStrike">
                <a:solidFill>
                  <a:srgbClr val="ffffff"/>
                </a:solidFill>
                <a:latin typeface="BankGothic Md BT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ankGothic Md BT"/>
              </a:rPr>
              <a:t>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755640" y="1916280"/>
            <a:ext cx="7777080" cy="42494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691480" y="6491160"/>
            <a:ext cx="476280" cy="4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15160" y="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20:05:51Z</dcterms:created>
  <dc:creator>Christian Mendera</dc:creator>
  <dc:description>www.CM-entertainment.com</dc:description>
  <cp:keywords>Sex &amp; Fun</cp:keywords>
  <dc:language>en-US</dc:language>
  <cp:lastModifiedBy>Chris Mendera</cp:lastModifiedBy>
  <dcterms:modified xsi:type="dcterms:W3CDTF">2005-12-29T18:22:46Z</dcterms:modified>
  <cp:revision>5</cp:revision>
  <dc:subject>Sex &amp; Fun</dc:subject>
  <dc:title>Blondy in orange room</dc:title>
</cp:coreProperties>
</file>