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9EF-DCB8-4E66-8896-A1626883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E03-39D4-4FD4-9046-8E6EAC3C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85B-86F6-466B-9F8D-C24F8160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077-F2E5-42C6-8C12-872E35D7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2B3-38C2-444E-89C8-E79E3DFE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1F9-4086-42B6-94E1-2061F89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10D-97CE-4A5E-ABBB-4762DD80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F38-FF05-447F-9E11-9DDADD87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565-6D23-45D1-A397-07E363A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6DD-C621-4824-9A28-87C9244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70B-E739-4F36-A672-99EC972B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468-8E26-44A8-892D-E6F1764C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3D58-D973-4EF4-B427-D2D612AA1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ita calma nessa hora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09720"/>
            <a:ext cx="6400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BAÇO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56000" y="4603680"/>
            <a:ext cx="4064040" cy="199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8728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987640" y="3933720"/>
            <a:ext cx="23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unca Levou Ferro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76360" y="3860640"/>
            <a:ext cx="26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irando a LEIT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46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88680" y="54928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ida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09800" y="5300640"/>
            <a:ext cx="55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 GEN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UNCA VIU NEM VAI 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216160" y="1700280"/>
            <a:ext cx="46609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uarde bem esta imagem na sua memoria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389320" y="5372280"/>
            <a:ext cx="3695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forme falei , Nunca Levou Vara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56000" y="1700280"/>
            <a:ext cx="410364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sto é um cabacinho meu amigo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050920" y="537372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isa muito rara (em extinção)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ficilmente você vai encontrar um  deste.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503520" y="1413000"/>
            <a:ext cx="2581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gora Fudeu Tudo!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8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28920" y="784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08840" y="3546360"/>
            <a:ext cx="1199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ridad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130560" y="1268280"/>
            <a:ext cx="3097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ero Km...uiuiuiuiu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132000" y="5634000"/>
            <a:ext cx="453708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idado meu amigos,Estou zeradinha!!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52:50Z</dcterms:created>
  <dc:creator>Carnieri</dc:creator>
  <dc:description/>
  <dc:language>en-US</dc:language>
  <cp:lastModifiedBy>User</cp:lastModifiedBy>
  <dcterms:modified xsi:type="dcterms:W3CDTF">2007-07-23T15:34:32Z</dcterms:modified>
  <cp:revision>4</cp:revision>
  <dc:subject/>
  <dc:title>Muita calma nessa hora !!!</dc:title>
</cp:coreProperties>
</file>