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7.jpeg" ContentType="image/jpeg"/>
  <Override PartName="/ppt/media/image12.jpeg" ContentType="image/jpeg"/>
  <Override PartName="/ppt/media/image2.jpeg" ContentType="image/jpeg"/>
  <Override PartName="/ppt/media/10-Help.wav-novo.wav-final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2808-7CD0-4FF4-B2B7-23FAE3F8E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DD6B-AE11-472C-A56D-F5BD95AC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3138-EC28-4118-9974-6491489AD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C150-BDD1-410B-972A-20491860C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93B3-F0A1-4F53-834B-A8EC7A2A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7229-05CF-4167-86A8-D4E16068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6CA0-A6BA-459F-AD8D-EA130C2F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6A39-137C-4B14-9688-A4AF65D1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6F84-F964-40ED-ADC6-8A2E6B90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1725-62A1-4C57-99BC-6683AB6B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E688-CC8A-418D-9DD0-C7A99862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B671-AF6A-45E9-BB5A-07BDE3E5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118E-607D-4759-8B93-2D6D3C26A47E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10-Help.wav-novo.wav-final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20333400">
            <a:off x="609480" y="2209320"/>
            <a:ext cx="8001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ff"/>
                </a:solidFill>
                <a:latin typeface="comic"/>
              </a:rPr>
              <a:t>ACHE UM DEFEITO 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1" name="10-Help.wav-novo.wav-fina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8784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556160" y="0"/>
            <a:ext cx="4587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8784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56160" y="0"/>
            <a:ext cx="4587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4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4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8784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56160" y="0"/>
            <a:ext cx="4587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8784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56160" y="0"/>
            <a:ext cx="4587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8784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56160" y="0"/>
            <a:ext cx="4587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8784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56160" y="0"/>
            <a:ext cx="4587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8784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56160" y="0"/>
            <a:ext cx="4587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8784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56160" y="0"/>
            <a:ext cx="4587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8784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556160" y="0"/>
            <a:ext cx="4587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4716720" cy="4043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514600" y="579132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Monotype Corsiva"/>
              </a:rPr>
              <a:t>Gostosissimaaaaaaaa!!!!!!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325"/>
                            </p:stCondLst>
                            <p:childTnLst>
                              <p:par>
                                <p:cTn id="306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0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8784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56160" y="0"/>
            <a:ext cx="4587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8784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56160" y="0"/>
            <a:ext cx="4587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8784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56160" y="0"/>
            <a:ext cx="4587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8784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56160" y="0"/>
            <a:ext cx="4587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3:00:55Z</dcterms:created>
  <dc:creator>user</dc:creator>
  <dc:description/>
  <dc:language>en-US</dc:language>
  <cp:lastModifiedBy>Dalvo</cp:lastModifiedBy>
  <dcterms:modified xsi:type="dcterms:W3CDTF">2009-06-22T16:40:52Z</dcterms:modified>
  <cp:revision>10</cp:revision>
  <dc:subject/>
  <dc:title>Slide 1</dc:title>
</cp:coreProperties>
</file>