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2FF-9F10-4C81-BEBA-CA5AFB01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C31-3F49-4A65-973F-C841090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BDC-A8C0-4B9E-B165-AE436BB3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4B8-E4D5-4D36-968F-9672D812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986-848F-408F-B529-C771EBAC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539-DF3F-468F-B4E6-31622D6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C92-F566-448D-A461-E1442CF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E504-F5E9-4E02-80A4-7F05811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96D0-8727-4306-8ED8-B20B2B8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7D5-F07A-4735-B0FC-97FB3A36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F9C-24EB-461D-BFC8-6AD74ED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134-572A-4627-B2C8-CF4D066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62A2-284E-447F-823B-F278ADD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ABF1-68FE-44C0-84CA-FD18413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4779-7C81-46DB-8500-F2079078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B4F0-8C81-4C61-8C5F-54774957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D90-71DB-44C0-A2E4-70989951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7D3-26A8-4848-B562-AE930163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80A-3917-4D49-A47C-493F1335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BEB-922F-45EA-B941-7806AAEB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ED7-FB26-4D0F-87F9-60371F9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27B-9B69-42D9-8D42-D11657E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A8F-BC3C-4562-B9AA-7206ED6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593-73DC-4A2B-8AB5-0590EEA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B13-8F05-4D1F-B518-76F045DE9AB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F21-04B5-43CE-B131-849CFBA3D43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Puro Filete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63920" y="6092640"/>
            <a:ext cx="6400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Gracias Raf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09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2" descr="1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Picture 2" descr="11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2" descr="12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2" descr="13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2" descr="1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2" descr="1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2" descr="1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2" descr="17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2" descr="18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3" descr="01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2" descr="19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2" descr="2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2" descr="21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2" descr="22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Picture 2" descr="23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2" descr="2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Picture 2" descr="2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2" descr="2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2" descr="27-lrg.jpg"/>
          <p:cNvPicPr/>
          <p:nvPr/>
        </p:nvPicPr>
        <p:blipFill>
          <a:blip r:embed="rId1"/>
          <a:stretch/>
        </p:blipFill>
        <p:spPr>
          <a:xfrm>
            <a:off x="-898560" y="-214200"/>
            <a:ext cx="1061892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2" descr="28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Picture 2" descr="02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2" descr="29-lrg.jpg"/>
          <p:cNvPicPr/>
          <p:nvPr/>
        </p:nvPicPr>
        <p:blipFill>
          <a:blip r:embed="rId1"/>
          <a:stretch/>
        </p:blipFill>
        <p:spPr>
          <a:xfrm>
            <a:off x="2428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Picture 2" descr="3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1" name="Picture 2" descr="31-lrg.jpg"/>
          <p:cNvPicPr/>
          <p:nvPr/>
        </p:nvPicPr>
        <p:blipFill>
          <a:blip r:embed="rId1"/>
          <a:stretch/>
        </p:blipFill>
        <p:spPr>
          <a:xfrm>
            <a:off x="-6429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32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2" descr="33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2" descr="34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2" descr="35-lrg.jpg"/>
          <p:cNvPicPr/>
          <p:nvPr/>
        </p:nvPicPr>
        <p:blipFill>
          <a:blip r:embed="rId1"/>
          <a:stretch/>
        </p:blipFill>
        <p:spPr>
          <a:xfrm>
            <a:off x="-428760" y="0"/>
            <a:ext cx="10298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2" descr="3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2" descr="03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2" descr="0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2" descr="0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06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2" descr="07-lrg.jpg"/>
          <p:cNvPicPr/>
          <p:nvPr/>
        </p:nvPicPr>
        <p:blipFill>
          <a:blip r:embed="rId1"/>
          <a:stretch/>
        </p:blipFill>
        <p:spPr>
          <a:xfrm>
            <a:off x="0" y="91116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08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1:30:48Z</dcterms:created>
  <dc:creator>Chubaka Producciones Inc.</dc:creator>
  <dc:description>Chubaka Producciones Inc.</dc:description>
  <cp:keywords>Chubaka Producciones Inc.</cp:keywords>
  <dc:language>en-US</dc:language>
  <cp:lastModifiedBy>Carlos A Pravia</cp:lastModifiedBy>
  <dcterms:modified xsi:type="dcterms:W3CDTF">2008-09-30T23:17:47Z</dcterms:modified>
  <cp:revision>11</cp:revision>
  <dc:subject>Chubaka Producciones Inc.</dc:subject>
  <dc:title>Chubaka Producciones Inc.</dc:title>
</cp:coreProperties>
</file>