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3E7-6E32-472A-9E6E-FDFE72E6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566A-A4AE-4FBD-B2E9-440D1B96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945-E28F-4138-8F1B-6FA07CC1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F999-EA3C-4809-A6ED-05635762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F2F5-8713-4488-B410-86DE7187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FD66-969A-40CC-B7D2-97CF11E5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7DE-8A0D-429F-9024-D2E5E1E7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314E-8705-40D4-9D15-56F53CED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720-1018-4020-8783-458CAF97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6D05-B290-41FD-9C2C-B0C43957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0F8-D5C0-4870-B3F1-658DCC35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AB2F-B105-4D41-AD6F-4413599D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4E97-7CE0-4EDE-8734-24040FB80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28560" y="2133720"/>
            <a:ext cx="487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80000"/>
                </a:solidFill>
                <a:latin typeface="Wide Latin"/>
              </a:rPr>
              <a:t>Please, do not lic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80000"/>
                </a:solidFill>
                <a:latin typeface="Wide Latin"/>
              </a:rPr>
              <a:t>the monito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332000" y="-34920"/>
            <a:ext cx="11339640" cy="74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612720" y="-530280"/>
            <a:ext cx="11306160" cy="73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05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86400" y="0"/>
            <a:ext cx="45576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684360" y="-27000"/>
            <a:ext cx="10369800" cy="6885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324000" y="0"/>
            <a:ext cx="3757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0"/>
            <a:ext cx="3757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0"/>
            <a:ext cx="375768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396720" y="-608040"/>
            <a:ext cx="9937440" cy="7466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252360" y="-316080"/>
            <a:ext cx="10512360" cy="788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405080" y="1440"/>
            <a:ext cx="11196720" cy="732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96720" y="-84240"/>
            <a:ext cx="11233080" cy="76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1692360" y="-34920"/>
            <a:ext cx="115207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684360" y="-515880"/>
            <a:ext cx="11304720" cy="73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189080" y="-390600"/>
            <a:ext cx="11090160" cy="72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0009440" cy="75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864720" cy="73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92000" cy="73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324000" y="1440"/>
            <a:ext cx="9792000" cy="73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10080720" cy="75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93080" cy="73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936360" cy="74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10009080" cy="75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8440" cy="7101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13320" y="0"/>
            <a:ext cx="4811760" cy="738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10080720" cy="75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396720" y="-25560"/>
            <a:ext cx="9793080" cy="73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10009080" cy="75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936360" cy="74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541440" y="1440"/>
            <a:ext cx="9937800" cy="74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0" y="0"/>
            <a:ext cx="4764240" cy="7316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52360" y="0"/>
            <a:ext cx="4811760" cy="738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757080" y="-82440"/>
            <a:ext cx="11737800" cy="764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541440" y="0"/>
            <a:ext cx="11161800" cy="7269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396720" y="0"/>
            <a:ext cx="10513800" cy="7051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08000" y="-171360"/>
            <a:ext cx="4680000" cy="702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-171360"/>
            <a:ext cx="4572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34920"/>
            <a:ext cx="11557080" cy="75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09:54:37Z</dcterms:created>
  <dc:creator>Regazzoni Christian</dc:creator>
  <dc:description/>
  <dc:language>en-US</dc:language>
  <cp:lastModifiedBy>Gilbert</cp:lastModifiedBy>
  <dcterms:modified xsi:type="dcterms:W3CDTF">2007-12-21T03:09:21Z</dcterms:modified>
  <cp:revision>11</cp:revision>
  <dc:subject/>
  <dc:title>Slide 1</dc:title>
</cp:coreProperties>
</file>