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sound001.wav" ContentType="audio/x-wav"/>
  <Override PartName="/ppt/media/image7.jpeg" ContentType="image/jpeg"/>
  <Override PartName="/ppt/media/image6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867-29F1-430A-8A99-39DF0E19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12D-10D4-43C4-9AAD-4636B6CC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753-5BDC-40F8-AF45-4FCAC59F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7D6-EB1C-4D70-905D-ED45FD9A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629-077E-471A-8524-8BFAF71B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833-3CD4-4E20-B59F-A6A1DAB8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A61-F530-45DE-BE3E-A5150D69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13C-0D21-483B-A746-63F8889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AAD-ECF6-4CC0-ABE4-05283C36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EC7-79C2-42CA-BBB6-D9C60274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7CB-8346-4C12-9B4B-C0A1E06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1E7-E10F-4EC8-A0CA-5E3E50A1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B71E-BB3E-4E21-B8CB-A3E46A3B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1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2997360"/>
            <a:ext cx="770400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A VERDADEIRA TROPA DE ELITE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push dir="u"/>
    <p:sndAc>
      <p:stSnd>
        <p:snd r:embed="rId1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10260000" cy="6786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828720" y="-27000"/>
            <a:ext cx="10514160" cy="69357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7440" y="-531720"/>
            <a:ext cx="5276880" cy="7921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828720" y="-39600"/>
            <a:ext cx="10585440" cy="6983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08000" y="-27000"/>
            <a:ext cx="4721400" cy="717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68960" y="-27000"/>
            <a:ext cx="4811400" cy="7389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00" y="69840"/>
            <a:ext cx="10225080" cy="6743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08000" y="4680"/>
            <a:ext cx="10225080" cy="68090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052720" y="-76320"/>
            <a:ext cx="1238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96720" y="-27000"/>
            <a:ext cx="1044072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54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08880" y="3645000"/>
            <a:ext cx="1820880" cy="24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84360" y="907920"/>
            <a:ext cx="3538440" cy="71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SSO 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ELITE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640" y="5516640"/>
            <a:ext cx="1228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ONINH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12276000" cy="6897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22400"/>
            <a:ext cx="12469680" cy="7007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24000" y="399960"/>
            <a:ext cx="10260000" cy="57657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836720" y="-61920"/>
            <a:ext cx="12361680" cy="6946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36960" y="0"/>
            <a:ext cx="12217320" cy="6864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2600" y="57240"/>
            <a:ext cx="12001320" cy="6743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325320" cy="6926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d9fa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557440" y="-27000"/>
            <a:ext cx="12530160" cy="7040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4:18Z</dcterms:created>
  <dc:creator>TONINHO</dc:creator>
  <dc:description>SEGURANÇA TOTAL</dc:description>
  <dc:language>en-US</dc:language>
  <cp:lastModifiedBy>win</cp:lastModifiedBy>
  <dcterms:modified xsi:type="dcterms:W3CDTF">2009-11-13T00:06:04Z</dcterms:modified>
  <cp:revision>3</cp:revision>
  <dc:subject/>
  <dc:title>A VERDADEIRA TROPA DE ELITE</dc:title>
</cp:coreProperties>
</file>