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6FC-670A-4640-A40B-A9E7EC6A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DD4-3079-4E17-870A-039FD31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9D2-754C-4615-BF60-AC7BF9BA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D42-9483-44DB-AECA-835B19CA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C8B-281D-4AC9-97D9-36AF3C5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FDD-F3C8-4D3E-84D1-DB0CE63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971-4C0C-4765-B28B-0574143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036-41A4-4746-8BE4-68E4806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73E-5A09-4874-9554-2AA5A05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B1A-6620-4B9E-9AEE-65B0E0E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E3B-C928-4C4E-A4FC-F86D417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EB5-3173-4943-A53C-9AF4B66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BE53-57B7-4505-AC35-7E995F33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8840" y="0"/>
            <a:ext cx="50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4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10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9360"/>
            <a:ext cx="8458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49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0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3800" y="0"/>
            <a:ext cx="575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7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97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-1440"/>
            <a:ext cx="7620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9:05:29Z</dcterms:created>
  <dc:creator>claudia</dc:creator>
  <dc:description/>
  <dc:language>en-US</dc:language>
  <cp:lastModifiedBy>tki</cp:lastModifiedBy>
  <dcterms:modified xsi:type="dcterms:W3CDTF">2008-03-02T21:30:28Z</dcterms:modified>
  <cp:revision>13</cp:revision>
  <dc:subject/>
  <dc:title>Slide 1</dc:title>
</cp:coreProperties>
</file>